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0.png" ContentType="image/png"/>
  <Override PartName="/ppt/media/image31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9.png" ContentType="image/png"/>
  <Override PartName="/ppt/media/image35.png" ContentType="image/png"/>
  <Override PartName="/ppt/media/image12.png" ContentType="image/png"/>
  <Override PartName="/ppt/media/image7.wmf" ContentType="image/x-wmf"/>
  <Override PartName="/ppt/media/image36.png" ContentType="image/png"/>
  <Override PartName="/ppt/media/image37.png" ContentType="image/png"/>
  <Override PartName="/ppt/media/image8.wmf" ContentType="image/x-wmf"/>
  <Override PartName="/ppt/media/image13.png" ContentType="image/png"/>
  <Override PartName="/ppt/media/image38.png" ContentType="image/png"/>
  <Override PartName="/ppt/media/image5.wmf" ContentType="image/x-wmf"/>
  <Override PartName="/ppt/media/image1.jpeg" ContentType="image/jpeg"/>
  <Override PartName="/ppt/media/image10.png" ContentType="image/png"/>
  <Override PartName="/ppt/media/image11.png" ContentType="image/png"/>
  <Override PartName="/ppt/media/image3.wmf" ContentType="image/x-wmf"/>
  <Override PartName="/ppt/media/image15.jpeg" ContentType="image/jpeg"/>
  <Override PartName="/ppt/media/image4.wmf" ContentType="image/x-wmf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2DE-D7EC-4915-B527-59909BF1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9725-3B39-4D48-943A-AF0FC69A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7B5F-5D01-462D-A4D0-76306BB5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30AB-7AEC-4B7F-8089-D212655B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4F06-3B39-44D1-ADD6-5D91AF02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D277-0F6F-4828-AF58-86FD5BC2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0F9A-B7D9-4B65-BE45-0CC7E3D1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6761-02D8-400D-A08E-BD212CD9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0980-8DC5-4F98-8CA0-47FB5C36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CB49-637C-4174-9DEE-1D9257AA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E4FE-A3B2-4FFF-9E08-EA88A246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CA7-2BDD-4106-A801-F27950CD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687A-DA17-497B-AAF8-D4C26661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A7F2-9AEC-4BAD-B0AD-DCBE4F35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1CF4-4E48-4DD4-81D2-AC609B83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772B-4D59-4AF5-9C27-A8C3F677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16FF-A9A4-4474-A8DD-8CAE3969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D41-AA5A-4414-B120-0DC37F1E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843-D61C-4C8E-9FDC-7F7D7B6C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761-0AA6-4760-98FA-16D70173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3640-5700-400E-90B0-5820B235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517-E66A-4478-8743-26ACC6C9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58E6-9470-45E1-A9BF-8CD019E9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220-AD19-44B6-A0C8-9C4C1DA5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C169-4BD3-40B8-8807-E2AFBCE5AC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2DA6-A705-486F-9927-6124C9D3F4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496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BES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软件进展和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Arial"/>
              </a:rPr>
              <a:t>J/</a:t>
            </a:r>
            <a:r>
              <a:rPr b="0" lang="zh-CN" sz="44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物理结果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90360" y="236196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华文细黑"/>
                <a:ea typeface="华文细黑"/>
              </a:rPr>
              <a:t>金  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(for BES Collabo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中国科学院高能物理研究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河南 </a:t>
            </a:r>
            <a:r>
              <a:rPr b="0" lang="zh-CN" sz="1000" spc="-1" strike="noStrike">
                <a:solidFill>
                  <a:srgbClr val="000000"/>
                </a:solidFill>
                <a:latin typeface="华文细黑"/>
                <a:ea typeface="华文细黑"/>
              </a:rPr>
              <a:t>●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新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华文细黑"/>
                <a:ea typeface="华文细黑"/>
              </a:rPr>
              <a:t>2002</a:t>
            </a:r>
            <a:r>
              <a:rPr b="0" lang="zh-CN" sz="2800" spc="-1" strike="noStrike">
                <a:solidFill>
                  <a:srgbClr val="800080"/>
                </a:solidFill>
                <a:latin typeface="华文细黑"/>
                <a:ea typeface="华文细黑"/>
              </a:rPr>
              <a:t>年</a:t>
            </a:r>
            <a:r>
              <a:rPr b="0" lang="zh-CN" sz="2800" spc="-1" strike="noStrike">
                <a:solidFill>
                  <a:srgbClr val="800080"/>
                </a:solidFill>
                <a:latin typeface="华文细黑"/>
                <a:ea typeface="华文细黑"/>
              </a:rPr>
              <a:t>11</a:t>
            </a:r>
            <a:r>
              <a:rPr b="0" lang="zh-CN" sz="2800" spc="-1" strike="noStrike">
                <a:solidFill>
                  <a:srgbClr val="800080"/>
                </a:solidFill>
                <a:latin typeface="华文细黑"/>
                <a:ea typeface="华文细黑"/>
              </a:rPr>
              <a:t>月</a:t>
            </a:r>
            <a:r>
              <a:rPr b="0" lang="zh-CN" sz="2800" spc="-1" strike="noStrike">
                <a:solidFill>
                  <a:srgbClr val="800080"/>
                </a:solidFill>
                <a:latin typeface="华文细黑"/>
                <a:ea typeface="华文细黑"/>
              </a:rPr>
              <a:t>1</a:t>
            </a:r>
            <a:r>
              <a:rPr b="0" lang="zh-CN" sz="2800" spc="-1" strike="noStrike">
                <a:solidFill>
                  <a:srgbClr val="800080"/>
                </a:solidFill>
                <a:latin typeface="华文细黑"/>
                <a:ea typeface="华文细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MC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软件检查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利用                                             等衰变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对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BES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探测器各子系统的模拟进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反复检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和调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， 使得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MC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模拟的</a:t>
            </a:r>
            <a:r>
              <a:rPr b="0" lang="zh-CN" sz="3200" spc="-1" strike="noStrike">
                <a:solidFill>
                  <a:srgbClr val="3333cc"/>
                </a:solidFill>
                <a:latin typeface="Arial"/>
                <a:ea typeface="华文细黑"/>
              </a:rPr>
              <a:t>重要物理指标和物理变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基本与数据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zh-CN" sz="4400" spc="-1" strike="noStrike">
                <a:solidFill>
                  <a:srgbClr val="ff0066"/>
                </a:solidFill>
                <a:latin typeface="隶书"/>
                <a:ea typeface="隶书"/>
              </a:rPr>
              <a:t>工作量很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752480" y="1752480"/>
                <a:ext cx="4800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ρ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900000" y="4941720"/>
            <a:ext cx="976320" cy="198720"/>
          </a:xfrm>
          <a:prstGeom prst="rightArrow">
            <a:avLst>
              <a:gd name="adj1" fmla="val 50000"/>
              <a:gd name="adj2" fmla="val 12282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MC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模拟 － 例 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Esc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7417080" cy="8353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708360" y="4149720"/>
            <a:ext cx="473040" cy="43488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1844640"/>
            <a:ext cx="473040" cy="43488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4360" y="1844640"/>
            <a:ext cx="496800" cy="4399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4360" y="4149720"/>
            <a:ext cx="496800" cy="4399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MC </a:t>
            </a:r>
            <a:r>
              <a:rPr b="0" lang="zh-CN" sz="40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模拟 － 例 </a:t>
            </a:r>
            <a:r>
              <a:rPr b="0" lang="zh-CN" sz="40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Error Matrix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6842160" cy="5256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588000" y="1844640"/>
            <a:ext cx="497160" cy="4399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3429000"/>
            <a:ext cx="497160" cy="4395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5084640"/>
            <a:ext cx="496800" cy="4399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1773360"/>
            <a:ext cx="473040" cy="43488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429000"/>
            <a:ext cx="473040" cy="43488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084640"/>
            <a:ext cx="473040" cy="43524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MC </a:t>
            </a:r>
            <a:r>
              <a:rPr b="0" lang="zh-CN" sz="40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模拟 － 例 </a:t>
            </a:r>
            <a:r>
              <a:rPr b="0" lang="zh-CN" sz="40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θ</a:t>
            </a:r>
            <a:r>
              <a:rPr b="0" lang="zh-CN" sz="28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μ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80000" y="2492280"/>
            <a:ext cx="496800" cy="4399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8064720" cy="547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35280" y="2492280"/>
            <a:ext cx="473040" cy="43524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</a:t>
            </a:r>
            <a:r>
              <a:rPr b="0" lang="zh-CN" sz="36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软件进展</a:t>
            </a:r>
            <a:r>
              <a:rPr b="0" lang="zh-CN" sz="3600" spc="-1" strike="noStrike" u="sng">
                <a:solidFill>
                  <a:srgbClr val="000099"/>
                </a:solidFill>
                <a:uFillTx/>
                <a:latin typeface="Arial"/>
              </a:rPr>
              <a:t> － </a:t>
            </a:r>
            <a:r>
              <a:rPr b="0" lang="zh-CN" sz="36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对物理结果的影响</a:t>
            </a:r>
            <a:r>
              <a:rPr b="0" lang="zh-CN" sz="40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447920"/>
            <a:ext cx="854064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800080"/>
                </a:solidFill>
                <a:latin typeface="黑体"/>
                <a:ea typeface="黑体"/>
              </a:rPr>
              <a:t>例一</a:t>
            </a:r>
            <a:r>
              <a:rPr b="0" lang="zh-CN" sz="3600" spc="-1" strike="noStrike">
                <a:solidFill>
                  <a:srgbClr val="80008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对角分布接收度有很大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影响自旋宇称分析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286000"/>
            <a:ext cx="976320" cy="198360"/>
          </a:xfrm>
          <a:prstGeom prst="rightArrow">
            <a:avLst>
              <a:gd name="adj1" fmla="val 50000"/>
              <a:gd name="adj2" fmla="val 1230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600200" y="3200400"/>
            <a:ext cx="6145200" cy="3505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105520" y="2743200"/>
                <a:ext cx="20574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sSup>
                      <m:e>
                        <m:r>
                          <m:t xml:space="preserve">γK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</a:t>
            </a:r>
            <a:r>
              <a:rPr b="0" lang="zh-CN" sz="36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软件进展</a:t>
            </a:r>
            <a:r>
              <a:rPr b="0" lang="zh-CN" sz="3600" spc="-1" strike="noStrike" u="sng">
                <a:solidFill>
                  <a:srgbClr val="000099"/>
                </a:solidFill>
                <a:uFillTx/>
                <a:latin typeface="Arial"/>
              </a:rPr>
              <a:t> － </a:t>
            </a:r>
            <a:r>
              <a:rPr b="0" lang="zh-CN" sz="36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对物理结果的影响</a:t>
            </a:r>
            <a:r>
              <a:rPr b="0" lang="zh-CN" sz="4000" spc="-1" strike="noStrike" u="sng">
                <a:solidFill>
                  <a:srgbClr val="000099"/>
                </a:solidFill>
                <a:uFillTx/>
                <a:latin typeface="Arial"/>
                <a:ea typeface="隶书"/>
              </a:rPr>
              <a:t>(I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800080"/>
                </a:solidFill>
                <a:latin typeface="Arial"/>
                <a:ea typeface="黑体"/>
              </a:rPr>
              <a:t>例二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以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J/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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研究为例， 用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SIMBES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得到的效率比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SOBE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得到的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低大约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％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影响很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BES </a:t>
            </a:r>
            <a:r>
              <a:rPr b="0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软件的进展对获得正确的物理结果至关重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3645000"/>
            <a:ext cx="976320" cy="198360"/>
          </a:xfrm>
          <a:prstGeom prst="rightArrow">
            <a:avLst>
              <a:gd name="adj1" fmla="val 50000"/>
              <a:gd name="adj2" fmla="val 1230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BES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软件进展重点总结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773360"/>
            <a:ext cx="86630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BE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软件中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MC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模拟和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error matrix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等问题基本得到解决，从而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B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发表国际水平高质量的文章打下良好的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引进了物理分析优化软件， 建立以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MC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为标准，客 观确定事例选择条件的方法，是物理分析走向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细黑"/>
              </a:rPr>
              <a:t>标准化、正规化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的重要步骤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主要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J/</a:t>
            </a:r>
            <a:r>
              <a:rPr b="0" lang="zh-CN" sz="54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物理结果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Outlin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1413000"/>
            <a:ext cx="85917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PWA of                      ,</a:t>
            </a:r>
            <a:r>
              <a:rPr b="0" lang="zh-CN" sz="3200" spc="-1" strike="noStrike">
                <a:solidFill>
                  <a:srgbClr val="660066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Enhancement near       threshol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in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</a:rPr>
              <a:t>The measurement of </a:t>
            </a:r>
            <a:r>
              <a:rPr b="0" lang="zh-CN" sz="32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zh-CN" sz="3200" spc="-1" strike="noStrike" baseline="-25000">
                <a:solidFill>
                  <a:srgbClr val="3333cc"/>
                </a:solidFill>
                <a:latin typeface="Arial"/>
              </a:rPr>
              <a:t>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</a:rPr>
              <a:t>Study of the excited baryon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Status of </a:t>
            </a:r>
            <a:r>
              <a:rPr b="0" lang="el-GR" sz="3200" spc="-1" strike="noStrike">
                <a:solidFill>
                  <a:srgbClr val="ff0066"/>
                </a:solidFill>
                <a:latin typeface="Arial"/>
                <a:ea typeface="Arial"/>
              </a:rPr>
              <a:t>ξ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Arial"/>
              </a:rPr>
              <a:t>(22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Upper limit on BR(J/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16128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124000" y="1916280"/>
                <a:ext cx="237492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K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859280" y="1916280"/>
                <a:ext cx="122400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γ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219320" y="2994120"/>
                <a:ext cx="20476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/ψ</m:t>
                    </m:r>
                    <m:r>
                      <m:t xml:space="preserve">→</m:t>
                    </m:r>
                    <m:r>
                      <m:t xml:space="preserve">γ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502160" y="3498840"/>
                <a:ext cx="1396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140360" y="2565360"/>
                <a:ext cx="647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420840"/>
            <a:ext cx="7772400" cy="9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World J/</a:t>
            </a:r>
            <a:r>
              <a:rPr b="0" lang="en-US" sz="3600" spc="-1" strike="noStrike">
                <a:solidFill>
                  <a:srgbClr val="003399"/>
                </a:solidFill>
                <a:latin typeface="Symbol"/>
                <a:ea typeface="Symbol"/>
              </a:rPr>
              <a:t>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and </a:t>
            </a:r>
            <a:r>
              <a:rPr b="0" lang="en-US" sz="3600" spc="-1" strike="noStrike">
                <a:solidFill>
                  <a:srgbClr val="003399"/>
                </a:solidFill>
                <a:latin typeface="Symbol"/>
                <a:ea typeface="Symbol"/>
              </a:rPr>
              <a:t>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(2S) Samples  (10</a:t>
            </a:r>
            <a:r>
              <a:rPr b="0" lang="en-US" sz="3600" spc="-1" strike="noStrike" baseline="30000">
                <a:solidFill>
                  <a:srgbClr val="003399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021040"/>
            <a:ext cx="4190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J/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202104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3399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(2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2666880"/>
          <a:ext cx="4191120" cy="36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66880"/>
                    <a:ext cx="41911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191120" y="2666880"/>
          <a:ext cx="4952880" cy="350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1120" y="2666880"/>
                    <a:ext cx="495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 txBox="1"/>
          <p:nvPr/>
        </p:nvSpPr>
        <p:spPr>
          <a:xfrm>
            <a:off x="1752480" y="2666880"/>
            <a:ext cx="53352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2001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 rot="38400">
            <a:off x="2987280" y="1628640"/>
            <a:ext cx="3295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argest from BES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588000" y="2637000"/>
            <a:ext cx="53352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2002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物理分析工作目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66"/>
                </a:solidFill>
                <a:latin typeface="Arial"/>
                <a:ea typeface="华文细黑"/>
              </a:rPr>
              <a:t>利用 </a:t>
            </a:r>
            <a:r>
              <a:rPr b="0" lang="zh-CN" sz="3200" spc="-1" strike="noStrike">
                <a:solidFill>
                  <a:srgbClr val="006666"/>
                </a:solidFill>
                <a:latin typeface="Arial"/>
                <a:ea typeface="华文细黑"/>
              </a:rPr>
              <a:t>BES </a:t>
            </a:r>
            <a:r>
              <a:rPr b="0" lang="zh-CN" sz="3200" spc="-1" strike="noStrike">
                <a:solidFill>
                  <a:srgbClr val="006666"/>
                </a:solidFill>
                <a:latin typeface="Arial"/>
                <a:ea typeface="华文细黑"/>
              </a:rPr>
              <a:t>数据， 获得一批高质量的国际水平的物理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华文细黑"/>
              </a:rPr>
              <a:t>为 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华文细黑"/>
              </a:rPr>
              <a:t>BES III 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华文细黑"/>
              </a:rPr>
              <a:t>和国际合作培养一批高水平的物理分析队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6720" y="4870440"/>
            <a:ext cx="976320" cy="214200"/>
          </a:xfrm>
          <a:prstGeom prst="rightArrow">
            <a:avLst>
              <a:gd name="adj1" fmla="val 50000"/>
              <a:gd name="adj2" fmla="val 1139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73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national Standard/Con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J/</a:t>
            </a:r>
            <a:r>
              <a:rPr b="0" lang="en-US" sz="44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Phy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4005360"/>
            <a:ext cx="8540640" cy="28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6666"/>
                </a:solidFill>
                <a:latin typeface="Comic Sans MS"/>
              </a:rPr>
              <a:t>3-gluon        Electromagnetic      Radiative               Via </a:t>
            </a:r>
            <a:r>
              <a:rPr b="0" lang="zh-CN" sz="2000" spc="-1" strike="noStrike">
                <a:solidFill>
                  <a:srgbClr val="006666"/>
                </a:solidFill>
                <a:latin typeface="Symbol"/>
                <a:ea typeface="Symbol"/>
              </a:rPr>
              <a:t></a:t>
            </a:r>
            <a:r>
              <a:rPr b="0" lang="zh-CN" sz="2000" spc="-1" strike="noStrike" baseline="-25000">
                <a:solidFill>
                  <a:srgbClr val="006666"/>
                </a:solidFill>
                <a:latin typeface="Comic Sans MS"/>
              </a:rPr>
              <a:t>c</a:t>
            </a:r>
            <a:r>
              <a:rPr b="0" lang="zh-CN" sz="2000" spc="-1" strike="noStrike">
                <a:solidFill>
                  <a:srgbClr val="ff0066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a good lab in studying hadron spect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a good lab for excited baryo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hunting for glueballs in J/</a:t>
            </a:r>
            <a:r>
              <a:rPr b="0" lang="zh-CN" sz="2800" spc="-1" strike="noStrike">
                <a:solidFill>
                  <a:srgbClr val="ff0066"/>
                </a:solidFill>
                <a:latin typeface="Symbol"/>
                <a:ea typeface="Symbol"/>
              </a:rPr>
              <a:t>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radiative dec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26920" y="2852640"/>
          <a:ext cx="1513080" cy="93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852640"/>
                    <a:ext cx="15130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771640" y="2924280"/>
          <a:ext cx="1511280" cy="79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2924280"/>
                    <a:ext cx="15112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788000" y="2205000"/>
          <a:ext cx="1512720" cy="151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88000" y="2205000"/>
                    <a:ext cx="15127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6877080" y="2205000"/>
          <a:ext cx="1512720" cy="1494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77080" y="2205000"/>
                    <a:ext cx="1512720" cy="14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179280" y="620640"/>
          <a:ext cx="3529080" cy="25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620640"/>
                    <a:ext cx="352908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900000" y="3213000"/>
          <a:ext cx="2398680" cy="3024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0000" y="3213000"/>
                    <a:ext cx="23986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851280" y="836640"/>
            <a:ext cx="482436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QCD predicts glueb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glueballs enhanced in J/</a:t>
            </a:r>
            <a:r>
              <a:rPr b="0" lang="zh-CN" sz="28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 radiative dec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LQCD calcul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  1.5 – 1.7 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2.3 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mixing of glueball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me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glueball candid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               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885080" y="3645000"/>
                <a:ext cx="4572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284720" y="5013360"/>
                <a:ext cx="13968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0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5867280" y="5013360"/>
                <a:ext cx="13971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7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451640" y="5013360"/>
                <a:ext cx="1282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3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00000" y="1341360"/>
            <a:ext cx="748836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WA of                     ,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t BES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(based on 5.8 </a:t>
            </a:r>
            <a:r>
              <a:rPr b="0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0" lang="en-US" sz="4000" spc="-1" strike="noStrike" baseline="30000">
                <a:solidFill>
                  <a:srgbClr val="000099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J/</a:t>
            </a:r>
            <a:r>
              <a:rPr b="0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Comic Sans MS"/>
              </a:rPr>
              <a:t>Results are preliminary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276720" y="1341360"/>
                <a:ext cx="28796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K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372360" y="1413000"/>
                <a:ext cx="12952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γ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4582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WA of                  and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53920" y="1484280"/>
            <a:ext cx="7966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a very important channel to investigate 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BESII prelimin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348000" y="620640"/>
                <a:ext cx="2592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7093080" y="620640"/>
                <a:ext cx="13665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076720" y="3124080"/>
            <a:ext cx="3529080" cy="31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87280" y="1916280"/>
                <a:ext cx="16383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K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K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763640" y="2276640"/>
                <a:ext cx="11527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7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920880" y="3124080"/>
            <a:ext cx="3506760" cy="318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02160" y="3282840"/>
                <a:ext cx="139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828800" y="3851280"/>
                <a:ext cx="9144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58</m:t>
                          </m:r>
                          <m:r>
                            <m:t xml:space="preserve">M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J</m:t>
                              </m:r>
                            </m:num>
                            <m:den>
                              <m:r>
                                <m:t xml:space="preserve">ψ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943600" y="3886200"/>
                <a:ext cx="9144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58</m:t>
                          </m:r>
                          <m:r>
                            <m:t xml:space="preserve">M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J</m:t>
                              </m:r>
                            </m:num>
                            <m:den>
                              <m:r>
                                <m:t xml:space="preserve">ψ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5076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68920" y="804960"/>
            <a:ext cx="6977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lobal fit and bin-by-bin fit ar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BESII prelim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4000" y="2438280"/>
            <a:ext cx="3887640" cy="3727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427640" y="2438280"/>
            <a:ext cx="41767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26920" y="765000"/>
            <a:ext cx="7632720" cy="14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reliminary Result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(       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2276640"/>
            <a:ext cx="837396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ear                  sig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vidence of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++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is dominant in 1.7GeV mass region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sses and Widths (statistical error only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692360" y="2276640"/>
                <a:ext cx="14572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2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39640" y="4508640"/>
                <a:ext cx="7201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25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18</m:t>
                    </m:r>
                    <m:r>
                      <m:t xml:space="preserve">±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eV,</m:t>
                    </m:r>
                    <m:r>
                      <m:t xml:space="preserve">Γ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b>
                      <m: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M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700360" y="2781360"/>
                <a:ext cx="14652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7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19640" y="1557360"/>
                <a:ext cx="22860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K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39640" y="5084640"/>
                <a:ext cx="71978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710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M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1703</m:t>
                        </m:r>
                      </m:e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8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MeV,</m:t>
                    </m:r>
                    <m:r>
                      <m:t xml:space="preserve">Γ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163</m:t>
                        </m:r>
                      </m:e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  <m: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Me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71640" y="380880"/>
            <a:ext cx="698508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WA of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924360" y="549360"/>
                <a:ext cx="34560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01" name=""/>
          <p:cNvGrpSpPr/>
          <p:nvPr/>
        </p:nvGrpSpPr>
        <p:grpSpPr>
          <a:xfrm>
            <a:off x="1676520" y="2133720"/>
            <a:ext cx="5905440" cy="4270320"/>
            <a:chOff x="1676520" y="2133720"/>
            <a:chExt cx="5905440" cy="427032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1676520" y="2133720"/>
              <a:ext cx="5905440" cy="42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 txBox="1"/>
            <p:nvPr/>
          </p:nvSpPr>
          <p:spPr>
            <a:xfrm>
              <a:off x="1676520" y="2133720"/>
              <a:ext cx="5905440" cy="427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ff66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524480" y="1776240"/>
                <a:ext cx="30718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SII Prelimina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715000" y="315900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58</m:t>
                          </m:r>
                          <m:r>
                            <m:t xml:space="preserve">M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J</m:t>
                              </m:r>
                            </m:num>
                            <m:den>
                              <m:r>
                                <m:t xml:space="preserve">ψ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4414680" cy="5327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181480" y="2438280"/>
            <a:ext cx="3513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well known f</a:t>
            </a:r>
            <a:r>
              <a:rPr b="0" lang="en-US" sz="28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(12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3048120"/>
            <a:ext cx="349416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two 0</a:t>
            </a:r>
            <a:r>
              <a:rPr b="0" lang="zh-CN" sz="2800" spc="-1" strike="noStrike" baseline="30000">
                <a:solidFill>
                  <a:srgbClr val="660066"/>
                </a:solidFill>
                <a:latin typeface="Arial"/>
              </a:rPr>
              <a:t>++’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s at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1.4 and 1.7 G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mass regio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for  f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(1710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838080"/>
            <a:ext cx="4121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Preliminary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(          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545080" y="1479600"/>
                <a:ext cx="26272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γ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715000" y="5334120"/>
                <a:ext cx="20574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ππ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971640" y="692280"/>
                <a:ext cx="3090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SII  preliminar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24000" y="1052640"/>
            <a:ext cx="8675640" cy="216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servation of a enhancement near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threshold in                    at BESII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(based on 5.8 </a:t>
            </a:r>
            <a:r>
              <a:rPr b="0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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0" lang="en-US" sz="4000" spc="-1" strike="noStrike" baseline="30000">
                <a:solidFill>
                  <a:srgbClr val="000099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J/</a:t>
            </a:r>
            <a:r>
              <a:rPr b="0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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)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006666"/>
                </a:solidFill>
                <a:latin typeface="Comic Sans MS"/>
              </a:rPr>
              <a:t>Results are preliminary 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55640" y="2349360"/>
                <a:ext cx="609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851280" y="2349360"/>
                <a:ext cx="23623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BES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软件进展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Event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 good charged tr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(isolated from charged trac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article 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4C-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914400" y="2438280"/>
                <a:ext cx="7621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990720" y="4267080"/>
                <a:ext cx="420372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  <m:r>
                          <m:t xml:space="preserve">(</m:t>
                        </m:r>
                        <m:r>
                          <m:t xml:space="preserve">γp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  <m:r>
                          <m:t xml:space="preserve">(</m:t>
                        </m:r>
                        <m:r>
                          <m:t xml:space="preserve">γp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γK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pp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mass for selected events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5280" y="1600200"/>
          <a:ext cx="6634440" cy="346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600200"/>
                    <a:ext cx="6634440" cy="34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 rot="10800000">
                <a:off x="1066680" y="815760"/>
                <a:ext cx="330480" cy="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962520" y="2514600"/>
                <a:ext cx="1295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484960" y="2579760"/>
                <a:ext cx="124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58</m:t>
                          </m:r>
                          <m:r>
                            <m:t xml:space="preserve">M</m:t>
                          </m:r>
                        </m:e>
                        <m:e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J</m:t>
                              </m:r>
                            </m:num>
                            <m:den>
                              <m:r>
                                <m:t xml:space="preserve">ψ</m:t>
                              </m:r>
                            </m:den>
                          </m:f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143000" y="5181480"/>
            <a:ext cx="6477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40480"/>
            <a:ext cx="7315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12960" y="5259240"/>
            <a:ext cx="6873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5410080"/>
            <a:ext cx="662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32080" y="5173560"/>
            <a:ext cx="634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esides     peak, there is a clear enhancement near thresh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048120" y="5257800"/>
                <a:ext cx="368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222120"/>
            <a:ext cx="9067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Are these really    and    ’s?  </a:t>
            </a:r>
            <a:r>
              <a:rPr b="0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(Yes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248520" y="3270240"/>
            <a:ext cx="2895480" cy="3581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0" y="3270240"/>
            <a:ext cx="3124080" cy="35812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04920" y="327024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327024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33465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K</a:t>
            </a:r>
            <a:r>
              <a:rPr b="1" lang="en-US" sz="28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848720" y="32702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K</a:t>
            </a:r>
            <a:r>
              <a:rPr b="1" lang="en-US" sz="28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508120"/>
            <a:ext cx="291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Tagged p &amp; p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J/</a:t>
            </a:r>
            <a:r>
              <a:rPr b="1" lang="en-US" sz="2000" spc="-1" strike="noStrike">
                <a:solidFill>
                  <a:srgbClr val="990033"/>
                </a:solidFill>
                <a:latin typeface="Symbol"/>
                <a:ea typeface="Symbol"/>
              </a:rPr>
              <a:t></a:t>
            </a:r>
            <a:r>
              <a:rPr b="1" lang="en-US" sz="20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990033"/>
                </a:solidFill>
                <a:latin typeface="Symbol"/>
                <a:ea typeface="Symbol"/>
              </a:rPr>
              <a:t></a:t>
            </a:r>
            <a:r>
              <a:rPr b="1" lang="en-US" sz="20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25844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Tagged K</a:t>
            </a:r>
            <a:r>
              <a:rPr b="1" lang="en-US" sz="2000" spc="-1" strike="noStrike" baseline="30000">
                <a:solidFill>
                  <a:srgbClr val="990033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&amp; K</a:t>
            </a:r>
            <a:r>
              <a:rPr b="1" lang="en-US" sz="20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J/</a:t>
            </a:r>
            <a:r>
              <a:rPr b="1" lang="en-US" sz="2000" spc="-1" strike="noStrike">
                <a:solidFill>
                  <a:srgbClr val="990033"/>
                </a:solidFill>
                <a:latin typeface="Symbol"/>
                <a:ea typeface="Symbol"/>
              </a:rPr>
              <a:t></a:t>
            </a:r>
            <a:r>
              <a:rPr b="1" lang="en-US" sz="20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</a:t>
            </a:r>
            <a:r>
              <a:rPr b="1" lang="en-US" sz="2000" spc="-1" strike="noStrike">
                <a:solidFill>
                  <a:srgbClr val="990033"/>
                </a:solidFill>
                <a:latin typeface="Symbol"/>
                <a:ea typeface="Symbol"/>
              </a:rPr>
              <a:t></a:t>
            </a:r>
            <a:r>
              <a:rPr b="1" lang="en-US" sz="2000" spc="-1" strike="noStrike" baseline="30000">
                <a:solidFill>
                  <a:srgbClr val="990033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2584440"/>
            <a:ext cx="152640" cy="0"/>
          </a:xfrm>
          <a:prstGeom prst="line">
            <a:avLst/>
          </a:prstGeom>
          <a:ln w="22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3422520"/>
            <a:ext cx="152280" cy="0"/>
          </a:xfrm>
          <a:prstGeom prst="line">
            <a:avLst/>
          </a:prstGeom>
          <a:ln w="22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357516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532764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0" y="532764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36511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372744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458200" y="36511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10280" y="532764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81880" y="517536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3124080" y="1289160"/>
            <a:ext cx="3070440" cy="39290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91120" y="83196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12891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12891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1441440"/>
            <a:ext cx="228600" cy="0"/>
          </a:xfrm>
          <a:prstGeom prst="line">
            <a:avLst/>
          </a:prstGeom>
          <a:ln w="22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18223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1822320"/>
            <a:ext cx="914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zh-CN" sz="2000" spc="-1" strike="noStrike" baseline="-25000">
                <a:solidFill>
                  <a:srgbClr val="000000"/>
                </a:solidFill>
                <a:latin typeface="Times New Roman"/>
              </a:rPr>
              <a:t>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342252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334656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99"/>
                </a:solidFill>
                <a:latin typeface="Times New Roman"/>
              </a:rPr>
              <a:t>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1517760"/>
            <a:ext cx="762120" cy="83808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1441440"/>
            <a:ext cx="761760" cy="83808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4419720" y="380880"/>
                <a:ext cx="369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010200" y="360360"/>
                <a:ext cx="3906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Backg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1680" y="1752480"/>
            <a:ext cx="8540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Main backgrounds remained after selection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mass peak near threshold(almost equal contributio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has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990720" y="2743200"/>
                <a:ext cx="16002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990720" y="3200400"/>
                <a:ext cx="17524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269" name=""/>
          <p:cNvGraphicFramePr/>
          <p:nvPr/>
        </p:nvGraphicFramePr>
        <p:xfrm>
          <a:off x="1066680" y="3733920"/>
          <a:ext cx="4467240" cy="27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3733920"/>
                    <a:ext cx="446724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4470480" y="3206880"/>
                <a:ext cx="203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743200" y="3886200"/>
                <a:ext cx="137160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343400" y="3886200"/>
                <a:ext cx="7873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at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5927760" y="3397320"/>
            <a:ext cx="2606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72200" y="4572000"/>
            <a:ext cx="283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No clear enhancement near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38680" y="4800600"/>
            <a:ext cx="457200" cy="104760"/>
          </a:xfrm>
          <a:prstGeom prst="leftArrow">
            <a:avLst>
              <a:gd name="adj1" fmla="val 50000"/>
              <a:gd name="adj2" fmla="val 1091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99"/>
                </a:solidFill>
                <a:uFillTx/>
                <a:latin typeface="Arial"/>
              </a:rPr>
              <a:t>S-wave Breit-Wigner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066680" y="2286000"/>
                <a:ext cx="73724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∝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1600200" y="3733920"/>
            <a:ext cx="58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Times New Roman"/>
              </a:rPr>
              <a:t>q =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daughter momen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00200" y="4343400"/>
            <a:ext cx="7010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q</a:t>
            </a:r>
            <a:r>
              <a:rPr b="1" i="1" lang="en-US" sz="3200" spc="-1" strike="noStrike" baseline="-25000">
                <a:solidFill>
                  <a:srgbClr val="a50021"/>
                </a:solidFill>
                <a:latin typeface="Times New Roman"/>
              </a:rPr>
              <a:t>0</a:t>
            </a: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daughter momentum @ 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51055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Weight the BW function with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mass-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1240" y="1447920"/>
            <a:ext cx="74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f the enhancement is treated as a reson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2057400"/>
            <a:ext cx="519120" cy="104760"/>
          </a:xfrm>
          <a:prstGeom prst="rightArrow">
            <a:avLst>
              <a:gd name="adj1" fmla="val 50000"/>
              <a:gd name="adj2" fmla="val 1238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5257800"/>
            <a:ext cx="519120" cy="104760"/>
          </a:xfrm>
          <a:prstGeom prst="rightArrow">
            <a:avLst>
              <a:gd name="adj1" fmla="val 50000"/>
              <a:gd name="adj2" fmla="val 12388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W Fit to the structure near thresh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48320" y="1752480"/>
            <a:ext cx="419400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ackground shape from                  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reliminary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statistical error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301680" y="2122560"/>
          <a:ext cx="4194000" cy="353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1680" y="2122560"/>
                    <a:ext cx="41940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084400" y="2527200"/>
                <a:ext cx="17733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SII prelimina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943600" y="2286000"/>
                <a:ext cx="1523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5169600" y="4950000"/>
            <a:ext cx="3411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istical significanc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486400" y="5486400"/>
                <a:ext cx="609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219640" y="3933720"/>
                <a:ext cx="292104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96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±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v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Arial"/>
              </a:rPr>
              <a:t>What is it ?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6666"/>
                </a:solidFill>
                <a:latin typeface="Arial"/>
              </a:rPr>
              <a:t>molecular st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</a:rPr>
              <a:t>glue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zh-CN" sz="3200" spc="-1" strike="noStrike">
                <a:solidFill>
                  <a:srgbClr val="800080"/>
                </a:solidFill>
                <a:latin typeface="Arial"/>
              </a:rPr>
              <a:t>why so close to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Dynamical eff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zh-CN" sz="3200" spc="-1" strike="noStrike">
                <a:solidFill>
                  <a:srgbClr val="000099"/>
                </a:solidFill>
                <a:latin typeface="Arial"/>
              </a:rPr>
              <a:t>no evidence in         o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Comic Sans MS"/>
              </a:rPr>
              <a:t>Searches for other decay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990720" y="1905120"/>
                <a:ext cx="5331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996840" y="2438280"/>
                <a:ext cx="4953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1143000" y="32004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4419720" y="3048120"/>
                <a:ext cx="672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1143000" y="43434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267080" y="4267080"/>
                <a:ext cx="736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Λ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Λ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638680" y="4191120"/>
                <a:ext cx="10033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γΞ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Ξ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457200" y="5486400"/>
            <a:ext cx="595440" cy="152280"/>
          </a:xfrm>
          <a:custGeom>
            <a:avLst/>
            <a:gdLst>
              <a:gd name="textAreaLeft" fmla="*/ 74160 w 595440"/>
              <a:gd name="textAreaRight" fmla="*/ 521280 w 5954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11280" y="380880"/>
            <a:ext cx="7848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Measurement of </a:t>
            </a:r>
            <a:r>
              <a:rPr b="0" lang="zh-CN" sz="36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0" lang="zh-CN" sz="3600" spc="-1" strike="noStrike" baseline="-25000">
                <a:solidFill>
                  <a:srgbClr val="ff0000"/>
                </a:solidFill>
                <a:latin typeface="Arial"/>
              </a:rPr>
              <a:t>c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mass and wid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87280" y="2276640"/>
          <a:ext cx="6624720" cy="41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2276640"/>
                    <a:ext cx="66247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962440" y="1800360"/>
                <a:ext cx="294768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ss and width of η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01680" y="692280"/>
            <a:ext cx="866304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835                   data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SI (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EO (2000) 2-photon 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692360" y="765000"/>
                <a:ext cx="1657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γ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611280" y="1413000"/>
                <a:ext cx="59054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2985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MeV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8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M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755640" y="2852640"/>
                <a:ext cx="615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γη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KK</m:t>
                    </m:r>
                    <m:r>
                      <m:rPr>
                        <m:lit/>
                        <m:nor/>
                      </m:rPr>
                      <m:t xml:space="preserve">ππ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π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KK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11280" y="3645000"/>
                <a:ext cx="80294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eV,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±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611280" y="5157720"/>
                <a:ext cx="80485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eV,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e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835280" y="692280"/>
            <a:ext cx="6121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1680" y="1052640"/>
            <a:ext cx="794232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ve channels were analyzed with BES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8M J/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600200" y="2362320"/>
          <a:ext cx="5853240" cy="23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362320"/>
                    <a:ext cx="5853240" cy="23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1600200" y="4724280"/>
          <a:ext cx="5867280" cy="598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4724280"/>
                    <a:ext cx="586728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软件进展主要内容</a:t>
            </a:r>
            <a:r>
              <a:rPr b="0" lang="zh-CN" sz="44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基本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MC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模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对物理结果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重点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bined Likelihood Fi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04920" y="1600200"/>
          <a:ext cx="5790960" cy="48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600200"/>
                    <a:ext cx="579096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6019920" y="2743200"/>
          <a:ext cx="2590560" cy="259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9920" y="2743200"/>
                    <a:ext cx="25905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sults with Full Systematic Studi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Systematic errors are mainly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      ◇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Background 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       ◇ </a:t>
            </a:r>
            <a:r>
              <a:rPr b="0" lang="en-US" sz="2000" spc="-1" strike="noStrike">
                <a:solidFill>
                  <a:srgbClr val="660066"/>
                </a:solidFill>
                <a:latin typeface="Comic Sans MS"/>
              </a:rPr>
              <a:t>Mass scale and mass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PDG 200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371600" y="1752480"/>
                <a:ext cx="62866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7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y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</m:e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y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286000" y="4952880"/>
                <a:ext cx="387972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7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</m:e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0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24000" y="234936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udy of the excited baryon 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4000" y="2421000"/>
            <a:ext cx="85406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J/</a:t>
            </a:r>
            <a:r>
              <a:rPr b="0" lang="en-US" sz="4000" spc="-1" strike="noStrike" u="sng">
                <a:solidFill>
                  <a:srgbClr val="ff0066"/>
                </a:solidFill>
                <a:uFillTx/>
                <a:latin typeface="Symbol"/>
                <a:ea typeface="Symbol"/>
              </a:rPr>
              <a:t></a:t>
            </a:r>
            <a:r>
              <a:rPr b="0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 decays – good lab. for excited baryon st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08000" y="4437000"/>
            <a:ext cx="4176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ynman diagram of the p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2205000"/>
            <a:ext cx="4626000" cy="35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relatively large branching ra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For                   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,       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syste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limited to be pure isospin 1/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50920" y="2205000"/>
          <a:ext cx="3889440" cy="20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205000"/>
                    <a:ext cx="388944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755640" y="4941720"/>
                <a:ext cx="24130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*,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*,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*,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Ξ</m:t>
                        </m:r>
                      </m:e>
                    </m:acc>
                    <m:r>
                      <m:t xml:space="preserve">Ξ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5292720" y="3213000"/>
                <a:ext cx="17398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716360" y="3789360"/>
                <a:ext cx="19177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N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π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716360" y="4292640"/>
                <a:ext cx="7876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π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948360" y="3789360"/>
                <a:ext cx="5716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from BESI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684360" y="2060640"/>
          <a:ext cx="3168360" cy="20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060640"/>
                    <a:ext cx="316836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4500720" y="1989000"/>
            <a:ext cx="4194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wo well known N* states 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(1535)S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 = 1530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 MeV/c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 95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5 MeV/c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DG: M=1520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1555MeV/c</a:t>
            </a: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= 100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250 MeV/c</a:t>
            </a: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(1650)S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 = 1647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0 MeV/c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=             MeV/c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DG: M=1520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1555MeV/c</a:t>
            </a: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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= 100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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250 MeV/c</a:t>
            </a:r>
            <a:r>
              <a:rPr b="0" lang="en-US" sz="20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684360" y="4149720"/>
          <a:ext cx="3166920" cy="208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4149720"/>
                    <a:ext cx="316692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681120" y="547560"/>
                <a:ext cx="3355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/ψ</m:t>
                    </m:r>
                    <m:r>
                      <m:t xml:space="preserve">→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5356080" y="4881600"/>
                <a:ext cx="762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</m:e>
                      <m: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sub>
                      <m: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2268360" y="1773360"/>
                <a:ext cx="1346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J/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1680" y="38088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from BESII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503360" y="2546280"/>
                <a:ext cx="1790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/ψ</m:t>
                    </m:r>
                    <m:r>
                      <m:t xml:space="preserve">→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643280" y="2205000"/>
            <a:ext cx="41943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              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PWA prelim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*(1535)(1/2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)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*(1520)(3/2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*(1675)(5/2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)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*(1680)(5/2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755640" y="2205000"/>
          <a:ext cx="3311640" cy="20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205000"/>
                    <a:ext cx="331164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55640" y="4292640"/>
          <a:ext cx="3240000" cy="2058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4292640"/>
                    <a:ext cx="324000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1835280" y="1916280"/>
                <a:ext cx="24336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M</m:t>
                    </m:r>
                    <m:r>
                      <m:rPr>
                        <m:lit/>
                        <m:nor/>
                      </m:rPr>
                      <m:t xml:space="preserve">preliminar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611280" y="333360"/>
                <a:ext cx="370656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/ψ</m:t>
                    </m:r>
                    <m:r>
                      <m:t xml:space="preserve">→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148360" y="2060640"/>
                <a:ext cx="23796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J/ψ</m:t>
                    </m:r>
                    <m:r>
                      <m:t xml:space="preserve">→</m:t>
                    </m:r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tus of              at BE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194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o far, no clear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f                has 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bser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ll possibl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re still being chec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301680" y="2057400"/>
          <a:ext cx="4194000" cy="36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1680" y="2057400"/>
                    <a:ext cx="4194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470480" y="3206880"/>
                <a:ext cx="203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924360" y="765000"/>
                <a:ext cx="16891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3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470480" y="3206880"/>
                <a:ext cx="203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638680" y="2895480"/>
                <a:ext cx="11430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3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Upper limit on BR(J/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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 → e</a:t>
            </a:r>
            <a:r>
              <a:rPr b="0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752480"/>
            <a:ext cx="8613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Arial"/>
              </a:rPr>
              <a:t>Search for </a:t>
            </a:r>
            <a:r>
              <a:rPr b="0" lang="zh-CN" sz="2800" spc="-1" strike="noStrike">
                <a:solidFill>
                  <a:srgbClr val="800080"/>
                </a:solidFill>
                <a:latin typeface="Arial"/>
              </a:rPr>
              <a:t>J/</a:t>
            </a:r>
            <a:r>
              <a:rPr b="0" lang="zh-CN" sz="2800" spc="-1" strike="noStrike">
                <a:solidFill>
                  <a:srgbClr val="800080"/>
                </a:solidFill>
                <a:latin typeface="Symbol"/>
                <a:ea typeface="Symbol"/>
              </a:rPr>
              <a:t></a:t>
            </a:r>
            <a:r>
              <a:rPr b="0" lang="zh-CN" sz="2800" spc="-1" strike="noStrike">
                <a:solidFill>
                  <a:srgbClr val="800080"/>
                </a:solidFill>
                <a:latin typeface="Arial"/>
                <a:ea typeface="Arial"/>
              </a:rPr>
              <a:t> → e</a:t>
            </a:r>
            <a:r>
              <a:rPr b="0" lang="zh-CN" sz="2800" spc="-1" strike="noStrike">
                <a:solidFill>
                  <a:srgbClr val="800080"/>
                </a:solidFill>
                <a:latin typeface="Symbol"/>
                <a:ea typeface="Symbol"/>
              </a:rPr>
              <a:t></a:t>
            </a:r>
            <a:r>
              <a:rPr b="0" lang="zh-CN" sz="2800" spc="-1" strike="noStrike">
                <a:solidFill>
                  <a:srgbClr val="800080"/>
                </a:solidFill>
                <a:latin typeface="Arial"/>
                <a:ea typeface="Arial"/>
              </a:rPr>
              <a:t> events in 58 M </a:t>
            </a:r>
            <a:r>
              <a:rPr b="0" lang="zh-CN" sz="2800" spc="-1" strike="noStrike">
                <a:solidFill>
                  <a:srgbClr val="800080"/>
                </a:solidFill>
                <a:latin typeface="Arial"/>
              </a:rPr>
              <a:t>J/</a:t>
            </a:r>
            <a:r>
              <a:rPr b="0" lang="zh-CN" sz="2800" spc="-1" strike="noStrike">
                <a:solidFill>
                  <a:srgbClr val="800080"/>
                </a:solidFill>
                <a:latin typeface="Symbol"/>
                <a:ea typeface="Symbol"/>
              </a:rPr>
              <a:t></a:t>
            </a:r>
            <a:r>
              <a:rPr b="0" lang="zh-CN" sz="2800" spc="-1" strike="noStrike">
                <a:solidFill>
                  <a:srgbClr val="800080"/>
                </a:solidFill>
                <a:latin typeface="Arial"/>
                <a:ea typeface="Arial"/>
              </a:rPr>
              <a:t>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Arial"/>
              </a:rPr>
              <a:t>Efficiency:  9.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Arial"/>
              </a:rPr>
              <a:t>Background:  from  ee(</a:t>
            </a:r>
            <a:r>
              <a:rPr b="0" lang="zh-CN" sz="2800" spc="-1" strike="noStrike">
                <a:solidFill>
                  <a:srgbClr val="006666"/>
                </a:solidFill>
                <a:latin typeface="Symbol"/>
                <a:ea typeface="Symbol"/>
              </a:rPr>
              <a:t></a:t>
            </a: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Arial"/>
              </a:rPr>
              <a:t>), </a:t>
            </a:r>
            <a:r>
              <a:rPr b="0" lang="zh-CN" sz="2800" spc="-1" strike="noStrike">
                <a:solidFill>
                  <a:srgbClr val="006666"/>
                </a:solidFill>
                <a:latin typeface="Symbol"/>
                <a:ea typeface="Symbol"/>
              </a:rPr>
              <a:t></a:t>
            </a: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Arial"/>
              </a:rPr>
              <a:t>, KK, </a:t>
            </a:r>
            <a:r>
              <a:rPr b="0" lang="zh-CN" sz="2800" spc="-1" strike="noStrike">
                <a:solidFill>
                  <a:srgbClr val="006666"/>
                </a:solidFill>
                <a:latin typeface="Symbol"/>
                <a:ea typeface="Symbol"/>
              </a:rPr>
              <a:t></a:t>
            </a: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Arial"/>
              </a:rPr>
              <a:t> final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Arial"/>
              </a:rPr>
              <a:t>                          </a:t>
            </a:r>
            <a:r>
              <a:rPr b="0" lang="zh-CN" sz="2800" spc="-1" strike="noStrike">
                <a:solidFill>
                  <a:srgbClr val="006666"/>
                </a:solidFill>
                <a:latin typeface="Arial"/>
                <a:ea typeface="Arial"/>
              </a:rPr>
              <a:t>Total:  5.98 ± 3.71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4 candidates are observed in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Arial"/>
              </a:rPr>
              <a:t>90% C.L. upper limit on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BR(J/</a:t>
            </a:r>
            <a:r>
              <a:rPr b="0" lang="zh-CN" sz="2800" spc="-1" strike="noStrike">
                <a:solidFill>
                  <a:srgbClr val="ff0066"/>
                </a:solidFill>
                <a:latin typeface="Symbol"/>
                <a:ea typeface="Symbol"/>
              </a:rPr>
              <a:t>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Arial"/>
              </a:rPr>
              <a:t> → e</a:t>
            </a:r>
            <a:r>
              <a:rPr b="0" lang="zh-CN" sz="2800" spc="-1" strike="noStrike">
                <a:solidFill>
                  <a:srgbClr val="ff0066"/>
                </a:solidFill>
                <a:latin typeface="Symbol"/>
                <a:ea typeface="Symbol"/>
              </a:rPr>
              <a:t>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Arial"/>
              </a:rPr>
              <a:t>Systematic errors are taken into account in the lim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Arial"/>
                <a:ea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895480" y="4724280"/>
                <a:ext cx="1828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04920" y="1522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1219320"/>
            <a:ext cx="8540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WA of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ES II 58M        data show strong produ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                           with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 significant near-threshold       enhancement is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in                    at BES II.  If treated as a reson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80008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mass and width are measu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3505320" y="1447920"/>
                <a:ext cx="44424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762120" y="1905120"/>
                <a:ext cx="9903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7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133720" y="1828800"/>
                <a:ext cx="2133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K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γπ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5029200" y="1828800"/>
                <a:ext cx="30481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ππ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4572000" y="2743200"/>
                <a:ext cx="368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1066680" y="3200400"/>
                <a:ext cx="14605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ψ</m:t>
                        </m:r>
                      </m:den>
                    </m:f>
                    <m:r>
                      <m:t xml:space="preserve">→</m:t>
                    </m:r>
                    <m:r>
                      <m:t xml:space="preserve">γp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908000" y="3716280"/>
                <a:ext cx="47419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M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896</m:t>
                          </m:r>
                          <m:r>
                            <m:t xml:space="preserve">±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MeV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Γ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57</m:t>
                          </m:r>
                          <m:r>
                            <m:t xml:space="preserve">±</m:t>
                          </m:r>
                          <m:r>
                            <m:t xml:space="preserve">8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MeV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905120" y="5105520"/>
                <a:ext cx="54864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7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y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</m:e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y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Me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Summary (continued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Excited baryon states are studied using P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No clear evidence of </a:t>
            </a:r>
            <a:r>
              <a:rPr b="0" lang="el-GR" sz="2400" spc="-1" strike="noStrike">
                <a:solidFill>
                  <a:srgbClr val="800080"/>
                </a:solidFill>
                <a:latin typeface="Arial"/>
              </a:rPr>
              <a:t>ξ</a:t>
            </a: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(2230) was observed in BESII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Checks are still going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Upper limit on BR(J/</a:t>
            </a:r>
            <a:r>
              <a:rPr b="0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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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):                          at 90% C.L</a:t>
            </a:r>
            <a:r>
              <a:rPr b="0" lang="zh-CN" sz="2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105520" y="3940200"/>
                <a:ext cx="13716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软件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重建软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MC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模拟软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物理分析工具软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软件进展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(I)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54064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以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GEANT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为基础的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Monte Carlo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模拟 软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SIMBES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基本完成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Data/MC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的一致性极大提高。从而为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BES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发表国际水平高质量的文章打下良好的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重建软件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10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版本升级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1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版本。不仅通过重新刻度， 消除了正负电荷径迹动量重建不对称性，改善了动量分辨，更重要的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1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版本消除了各重建平台（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HP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pcfar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之间的差别，使得用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pcfar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为主重建数据成为可能，从而极大提高了数据产生效率。例如，在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HP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机器上重建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58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数据约需两个月，而现在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pcfar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上重建只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天，满足了物理分析研究多次重建的需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软件进展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(II)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320" y="1752480"/>
            <a:ext cx="85914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1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版本基础上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J/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数据重建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遍（其中一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103 tes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版本是为了研究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华文细黑"/>
              </a:rPr>
              <a:t>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(2230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。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’ 和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”数据各重建了一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dE/d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TO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Shower Count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重建软件作了仔细研究，改进了重建、刻度方法，减小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offse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或提高了分辨率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引进了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SCANJOB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物理分析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CUT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优化软件，建立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MC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为标准，客观确定事例选择条件的方法，是物理分析走向标准化、正规化的重要步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软件进展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 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(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</a:rPr>
              <a:t>III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8423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其他工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’、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”数据质量研究与刻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按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J/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’、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”等物理需要改进了物理事例产生子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计数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向刻度的改进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向分辨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8c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提高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5c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B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软件的日常管理、维护，刻度常数更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C+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B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中的应用，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BESII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的软件发展打下良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细黑"/>
              </a:rPr>
              <a:t>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99"/>
                </a:solidFill>
                <a:uFillTx/>
                <a:latin typeface="Arial"/>
                <a:ea typeface="黑体"/>
              </a:rPr>
              <a:t>BES MC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 </a:t>
            </a:r>
            <a:r>
              <a:rPr b="0" lang="zh-CN" sz="4400" spc="-1" strike="noStrike" u="sng">
                <a:solidFill>
                  <a:srgbClr val="000099"/>
                </a:solidFill>
                <a:uFillTx/>
                <a:latin typeface="黑体"/>
                <a:ea typeface="黑体"/>
              </a:rPr>
              <a:t>模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SOBER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和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SIM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新老版本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BES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探测器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MC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模拟软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     ◇ 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华文细黑"/>
              </a:rPr>
              <a:t>SOBER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华文细黑"/>
              </a:rPr>
              <a:t>： 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华文细黑"/>
              </a:rPr>
              <a:t>Old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华文细黑"/>
              </a:rPr>
              <a:t>                            </a:t>
            </a:r>
            <a:r>
              <a:rPr b="0" lang="zh-CN" sz="3200" spc="-1" strike="noStrike">
                <a:solidFill>
                  <a:srgbClr val="800080"/>
                </a:solidFill>
                <a:latin typeface="Arial"/>
                <a:ea typeface="华文细黑"/>
              </a:rPr>
              <a:t>Not GEANT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细黑"/>
              </a:rPr>
              <a:t>      ◆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SIMBES:   New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GEANT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4T15:23:36Z</dcterms:created>
  <dc:creator>Glueball</dc:creator>
  <dc:description/>
  <dc:language>en-US</dc:language>
  <cp:lastModifiedBy>jins</cp:lastModifiedBy>
  <dcterms:modified xsi:type="dcterms:W3CDTF">2002-10-28T14:09:36Z</dcterms:modified>
  <cp:revision>220</cp:revision>
  <dc:subject/>
  <dc:title>New       Results from BES </dc:title>
</cp:coreProperties>
</file>