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794-8E0C-4A5E-80B6-6651BB303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E3BF-5851-4CB6-8D9B-25478FFE2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B68-058F-4F6F-9BB7-9F0CB57FB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15B-543D-4476-B7B2-8E5C541AE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53E40-9FD7-4CD3-A1C9-D44A7777C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AA9BB-1257-4C64-8AEC-765289C6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C9C56-A59F-445D-99A7-56A296C2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B0FE9-2ACB-465F-AAB6-585A2DD7D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D0BF9-E3FE-444C-9D66-BF322525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C12E-E153-4B46-B3B5-15A719E1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66E57-45D9-4B53-BAE4-3FF72C38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9CE5-61D4-48A2-8FD1-36F487AD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7D03-669D-4833-BC32-570A8014E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15F5E-DB1E-4070-9DA8-265A1968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EB655-6E47-4C85-B92C-D5C21444B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CE86-184D-4C1D-83B1-9D9C90E5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F4C5F-E0EC-4198-AD7B-D1F8DF0BC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B036C-3519-4A8E-8C81-EDFDAB3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0F1B-DC10-4A63-9C72-D235AA38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B5C0-E52D-4782-8B9C-39BF58E1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ABF5-FFC0-4622-B511-BC082DC5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1F52-214D-4E3C-9282-64F8ABA9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B516-291F-4BA6-954A-B523647A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9CE4-557D-4B15-A32B-C6A9934AA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7C7C-9293-40DB-A854-8E91FCC49194}" type="datetime">
              <a:rPr b="0" lang="zh-CN" sz="1400" spc="-1" strike="noStrike">
                <a:solidFill>
                  <a:srgbClr val="ffffcc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ACA6-F949-4D63-87BE-F1FB13D16BA3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7CE44-703D-4C8D-B518-C75FA1A86D9A}" type="datetime">
              <a:rPr b="0" lang="zh-CN" sz="1400" spc="-1" strike="noStrike">
                <a:solidFill>
                  <a:srgbClr val="ffffcc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7A90-0D95-4E12-BD50-95B0729A71EA}" type="slidenum">
              <a:rPr b="0" lang="zh-CN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物理的</a:t>
            </a:r>
            <a:r>
              <a:rPr b="0" lang="zh-CN" sz="4400" spc="-1" strike="noStrike">
                <a:solidFill>
                  <a:srgbClr val="ff2b2b"/>
                </a:solidFill>
                <a:latin typeface="Arial"/>
              </a:rPr>
              <a:t>一些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最新进展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281800" cy="40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吕才典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中科院高能物理所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         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辐射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半轻子衰变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非轻子衰变：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1.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因子化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2.  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微扰 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物理中抽取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KM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幺正相角</a:t>
            </a:r>
            <a:r>
              <a:rPr b="1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、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β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、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总结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5E8A-E9BD-46A7-8A0C-32218345E34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8B549-8D6A-4FDC-84A3-82619A2E30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例如：超对称粒子的贡献，不同于标准模型的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–A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形式，因而，造成衰变宽度作为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函数形式的不同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此方法能区分不同（手征）算符的贡献，即使在新物理对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衰变分支比的贡献恰好与标准模型没有差别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情况下，仍然可以通过衰变末态角分布的不同，区分出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新物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标准模型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贡献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9F57-C089-4EA6-B6DB-21EF221678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9FAE0-9912-4B27-97EB-F3A315CBCF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介子的非轻子衰变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研究背景和动机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研究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P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破坏 – 特别是直接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破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KM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相角的直接测量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检验标准模型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新物理信号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—稀有衰变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… …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89E-04C1-4B70-A42C-7D37E5545A6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6A2222-41FE-4F31-B396-F16C9F3739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4d4d4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772400" cy="52578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’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u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u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’    =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cd</a:t>
            </a: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66ff66"/>
                </a:solidFill>
                <a:latin typeface="Arial"/>
              </a:rPr>
              <a:t> V</a:t>
            </a:r>
            <a:r>
              <a:rPr b="0" lang="en-US" sz="3200" spc="-1" strike="noStrike" baseline="-25000">
                <a:solidFill>
                  <a:srgbClr val="66ff66"/>
                </a:solidFill>
                <a:latin typeface="Arial"/>
              </a:rPr>
              <a:t>c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’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td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t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t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b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幺正三角形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ud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cd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cb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td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tb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0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三个角的测量主要由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非轻子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来完成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例如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ρ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β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/ψK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ud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Arial"/>
              </a:rPr>
              <a:t>ub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α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td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Arial"/>
              </a:rPr>
              <a:t>tb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γ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K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, 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→K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ρ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来测量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γ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             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  <a:ea typeface="Times New Roman"/>
              </a:rPr>
              <a:t>β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  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ff0066"/>
                </a:solidFill>
                <a:latin typeface="Arial"/>
              </a:rPr>
              <a:t>cd</a:t>
            </a:r>
            <a:r>
              <a:rPr b="0" lang="en-US" sz="24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400" spc="-1" strike="noStrike" baseline="-25000">
                <a:solidFill>
                  <a:srgbClr val="00ff00"/>
                </a:solidFill>
                <a:latin typeface="Arial"/>
              </a:rPr>
              <a:t>cb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762120"/>
            <a:ext cx="533160" cy="1447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762120"/>
            <a:ext cx="2895480" cy="1447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762120"/>
            <a:ext cx="457200" cy="137160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790960" y="3809880"/>
            <a:ext cx="533160" cy="14479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4480" y="3809880"/>
            <a:ext cx="2133720" cy="137160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91320" y="5257800"/>
            <a:ext cx="26668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5D9C-56A9-4036-BCB0-FFBEA0011D9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D3450-F3D4-4810-9D38-6C23BB1E4F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介子的非轻子 衰变的计算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弱电相互作用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夸克层次的弱电衰变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微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辐射修正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强子化过程的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非微扰计算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最困难的部分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因子化定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假设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证明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与具体的过程有关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A87A-99A4-411A-A5F3-87B3AADBE2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DACC73-3B62-4853-913F-AAB08DAACB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B→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π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ρ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ω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衰变由两类夸克图贡献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u       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树图 ∝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ub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ud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π                 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ρ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     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企鹅图∝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Arial"/>
              </a:rPr>
              <a:t>tb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V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Arial"/>
              </a:rPr>
              <a:t>td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π 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28954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143000" y="35812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514600" y="16765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514600" y="2133720"/>
            <a:ext cx="10666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17600" y="2430360"/>
            <a:ext cx="322560" cy="480960"/>
          </a:xfrm>
          <a:custGeom>
            <a:avLst/>
            <a:gdLst/>
            <a:ahLst/>
            <a:rect l="l" t="t" r="r" b="b"/>
            <a:pathLst>
              <a:path w="203" h="303">
                <a:moveTo>
                  <a:pt x="203" y="5"/>
                </a:moveTo>
                <a:cubicBezTo>
                  <a:pt x="178" y="9"/>
                  <a:pt x="148" y="0"/>
                  <a:pt x="128" y="16"/>
                </a:cubicBezTo>
                <a:cubicBezTo>
                  <a:pt x="110" y="30"/>
                  <a:pt x="107" y="80"/>
                  <a:pt x="107" y="80"/>
                </a:cubicBezTo>
                <a:cubicBezTo>
                  <a:pt x="119" y="125"/>
                  <a:pt x="135" y="138"/>
                  <a:pt x="160" y="176"/>
                </a:cubicBezTo>
                <a:cubicBezTo>
                  <a:pt x="153" y="187"/>
                  <a:pt x="151" y="204"/>
                  <a:pt x="139" y="208"/>
                </a:cubicBezTo>
                <a:cubicBezTo>
                  <a:pt x="0" y="250"/>
                  <a:pt x="38" y="172"/>
                  <a:pt x="11" y="250"/>
                </a:cubicBezTo>
                <a:cubicBezTo>
                  <a:pt x="25" y="303"/>
                  <a:pt x="7" y="293"/>
                  <a:pt x="54" y="293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5791320"/>
            <a:ext cx="2971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5105520"/>
            <a:ext cx="12193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514600" y="4114800"/>
            <a:ext cx="990720" cy="99072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3352680" y="4571640"/>
            <a:ext cx="609840" cy="60948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5181480"/>
            <a:ext cx="9144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846440" y="4554360"/>
            <a:ext cx="1252440" cy="559080"/>
          </a:xfrm>
          <a:custGeom>
            <a:avLst/>
            <a:gdLst/>
            <a:ahLst/>
            <a:rect l="l" t="t" r="r" b="b"/>
            <a:pathLst>
              <a:path w="789" h="352">
                <a:moveTo>
                  <a:pt x="0" y="352"/>
                </a:moveTo>
                <a:cubicBezTo>
                  <a:pt x="3" y="327"/>
                  <a:pt x="6" y="302"/>
                  <a:pt x="10" y="278"/>
                </a:cubicBezTo>
                <a:cubicBezTo>
                  <a:pt x="13" y="263"/>
                  <a:pt x="7" y="240"/>
                  <a:pt x="21" y="235"/>
                </a:cubicBezTo>
                <a:cubicBezTo>
                  <a:pt x="48" y="226"/>
                  <a:pt x="78" y="242"/>
                  <a:pt x="106" y="246"/>
                </a:cubicBezTo>
                <a:cubicBezTo>
                  <a:pt x="120" y="242"/>
                  <a:pt x="143" y="248"/>
                  <a:pt x="149" y="235"/>
                </a:cubicBezTo>
                <a:cubicBezTo>
                  <a:pt x="222" y="75"/>
                  <a:pt x="108" y="162"/>
                  <a:pt x="192" y="107"/>
                </a:cubicBezTo>
                <a:cubicBezTo>
                  <a:pt x="213" y="114"/>
                  <a:pt x="235" y="121"/>
                  <a:pt x="256" y="128"/>
                </a:cubicBezTo>
                <a:cubicBezTo>
                  <a:pt x="268" y="132"/>
                  <a:pt x="267" y="152"/>
                  <a:pt x="277" y="160"/>
                </a:cubicBezTo>
                <a:cubicBezTo>
                  <a:pt x="286" y="167"/>
                  <a:pt x="298" y="167"/>
                  <a:pt x="309" y="171"/>
                </a:cubicBezTo>
                <a:cubicBezTo>
                  <a:pt x="323" y="130"/>
                  <a:pt x="321" y="95"/>
                  <a:pt x="352" y="64"/>
                </a:cubicBezTo>
                <a:cubicBezTo>
                  <a:pt x="392" y="74"/>
                  <a:pt x="418" y="79"/>
                  <a:pt x="448" y="107"/>
                </a:cubicBezTo>
                <a:cubicBezTo>
                  <a:pt x="525" y="80"/>
                  <a:pt x="437" y="121"/>
                  <a:pt x="490" y="54"/>
                </a:cubicBezTo>
                <a:cubicBezTo>
                  <a:pt x="497" y="45"/>
                  <a:pt x="511" y="47"/>
                  <a:pt x="522" y="43"/>
                </a:cubicBezTo>
                <a:cubicBezTo>
                  <a:pt x="529" y="36"/>
                  <a:pt x="534" y="22"/>
                  <a:pt x="544" y="22"/>
                </a:cubicBezTo>
                <a:cubicBezTo>
                  <a:pt x="566" y="22"/>
                  <a:pt x="608" y="43"/>
                  <a:pt x="608" y="43"/>
                </a:cubicBezTo>
                <a:cubicBezTo>
                  <a:pt x="651" y="108"/>
                  <a:pt x="610" y="63"/>
                  <a:pt x="640" y="11"/>
                </a:cubicBezTo>
                <a:cubicBezTo>
                  <a:pt x="646" y="1"/>
                  <a:pt x="661" y="4"/>
                  <a:pt x="672" y="0"/>
                </a:cubicBezTo>
                <a:cubicBezTo>
                  <a:pt x="704" y="11"/>
                  <a:pt x="708" y="10"/>
                  <a:pt x="736" y="32"/>
                </a:cubicBezTo>
                <a:cubicBezTo>
                  <a:pt x="744" y="38"/>
                  <a:pt x="748" y="50"/>
                  <a:pt x="757" y="54"/>
                </a:cubicBezTo>
                <a:cubicBezTo>
                  <a:pt x="767" y="58"/>
                  <a:pt x="778" y="54"/>
                  <a:pt x="789" y="54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06680" y="5079960"/>
            <a:ext cx="195120" cy="152280"/>
          </a:xfrm>
          <a:custGeom>
            <a:avLst/>
            <a:gdLst/>
            <a:ahLst/>
            <a:rect l="l" t="t" r="r" b="b"/>
            <a:pathLst>
              <a:path w="123" h="96">
                <a:moveTo>
                  <a:pt x="0" y="0"/>
                </a:moveTo>
                <a:cubicBezTo>
                  <a:pt x="11" y="60"/>
                  <a:pt x="15" y="64"/>
                  <a:pt x="64" y="96"/>
                </a:cubicBezTo>
                <a:cubicBezTo>
                  <a:pt x="123" y="81"/>
                  <a:pt x="117" y="80"/>
                  <a:pt x="117" y="21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31960" y="5033880"/>
            <a:ext cx="495360" cy="217440"/>
          </a:xfrm>
          <a:custGeom>
            <a:avLst/>
            <a:gdLst/>
            <a:ahLst/>
            <a:rect l="l" t="t" r="r" b="b"/>
            <a:pathLst>
              <a:path w="312" h="137">
                <a:moveTo>
                  <a:pt x="49" y="61"/>
                </a:moveTo>
                <a:cubicBezTo>
                  <a:pt x="45" y="43"/>
                  <a:pt x="51" y="21"/>
                  <a:pt x="38" y="8"/>
                </a:cubicBezTo>
                <a:cubicBezTo>
                  <a:pt x="30" y="0"/>
                  <a:pt x="9" y="7"/>
                  <a:pt x="6" y="18"/>
                </a:cubicBezTo>
                <a:cubicBezTo>
                  <a:pt x="0" y="35"/>
                  <a:pt x="6" y="58"/>
                  <a:pt x="17" y="72"/>
                </a:cubicBezTo>
                <a:cubicBezTo>
                  <a:pt x="42" y="103"/>
                  <a:pt x="78" y="113"/>
                  <a:pt x="113" y="125"/>
                </a:cubicBezTo>
                <a:cubicBezTo>
                  <a:pt x="193" y="97"/>
                  <a:pt x="178" y="90"/>
                  <a:pt x="166" y="8"/>
                </a:cubicBezTo>
                <a:cubicBezTo>
                  <a:pt x="155" y="11"/>
                  <a:pt x="137" y="7"/>
                  <a:pt x="134" y="18"/>
                </a:cubicBezTo>
                <a:cubicBezTo>
                  <a:pt x="118" y="75"/>
                  <a:pt x="161" y="101"/>
                  <a:pt x="198" y="125"/>
                </a:cubicBezTo>
                <a:cubicBezTo>
                  <a:pt x="230" y="121"/>
                  <a:pt x="271" y="137"/>
                  <a:pt x="294" y="114"/>
                </a:cubicBezTo>
                <a:cubicBezTo>
                  <a:pt x="312" y="96"/>
                  <a:pt x="291" y="64"/>
                  <a:pt x="283" y="40"/>
                </a:cubicBezTo>
                <a:cubicBezTo>
                  <a:pt x="280" y="30"/>
                  <a:pt x="262" y="18"/>
                  <a:pt x="262" y="18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08160" y="5062680"/>
            <a:ext cx="362160" cy="261720"/>
          </a:xfrm>
          <a:custGeom>
            <a:avLst/>
            <a:gdLst/>
            <a:ahLst/>
            <a:rect l="l" t="t" r="r" b="b"/>
            <a:pathLst>
              <a:path w="228" h="165">
                <a:moveTo>
                  <a:pt x="25" y="0"/>
                </a:moveTo>
                <a:cubicBezTo>
                  <a:pt x="15" y="29"/>
                  <a:pt x="0" y="54"/>
                  <a:pt x="25" y="86"/>
                </a:cubicBezTo>
                <a:cubicBezTo>
                  <a:pt x="41" y="106"/>
                  <a:pt x="89" y="128"/>
                  <a:pt x="89" y="128"/>
                </a:cubicBezTo>
                <a:cubicBezTo>
                  <a:pt x="110" y="125"/>
                  <a:pt x="134" y="129"/>
                  <a:pt x="153" y="118"/>
                </a:cubicBezTo>
                <a:cubicBezTo>
                  <a:pt x="178" y="104"/>
                  <a:pt x="153" y="23"/>
                  <a:pt x="153" y="22"/>
                </a:cubicBezTo>
                <a:cubicBezTo>
                  <a:pt x="147" y="12"/>
                  <a:pt x="132" y="15"/>
                  <a:pt x="121" y="11"/>
                </a:cubicBezTo>
                <a:cubicBezTo>
                  <a:pt x="91" y="57"/>
                  <a:pt x="87" y="67"/>
                  <a:pt x="142" y="86"/>
                </a:cubicBezTo>
                <a:cubicBezTo>
                  <a:pt x="156" y="100"/>
                  <a:pt x="228" y="165"/>
                  <a:pt x="228" y="118"/>
                </a:cubicBezTo>
              </a:path>
            </a:pathLst>
          </a:custGeom>
          <a:noFill/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01920" y="5099040"/>
            <a:ext cx="109440" cy="150840"/>
          </a:xfrm>
          <a:custGeom>
            <a:avLst/>
            <a:gdLst/>
            <a:ahLst/>
            <a:rect l="l" t="t" r="r" b="b"/>
            <a:pathLst>
              <a:path w="69" h="95">
                <a:moveTo>
                  <a:pt x="43" y="95"/>
                </a:moveTo>
                <a:cubicBezTo>
                  <a:pt x="50" y="72"/>
                  <a:pt x="69" y="30"/>
                  <a:pt x="43" y="9"/>
                </a:cubicBezTo>
                <a:cubicBezTo>
                  <a:pt x="32" y="0"/>
                  <a:pt x="14" y="16"/>
                  <a:pt x="0" y="20"/>
                </a:cubicBezTo>
                <a:cubicBezTo>
                  <a:pt x="47" y="51"/>
                  <a:pt x="29" y="28"/>
                  <a:pt x="43" y="95"/>
                </a:cubicBezTo>
                <a:close/>
              </a:path>
            </a:pathLst>
          </a:custGeom>
          <a:solidFill>
            <a:srgbClr val="808000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617C-BF1A-4B1E-8DA0-82405D9B0F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4DD686-0D72-4F58-A6BD-4758094059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B→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π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ρ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,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  <a:ea typeface="Times New Roman"/>
              </a:rPr>
              <a:t>πω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衰变由两类夸克图贡献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r>
              <a:rPr b="0" lang="en-US" sz="2800" spc="-1" strike="noStrike">
                <a:solidFill>
                  <a:srgbClr val="ffffcc"/>
                </a:solidFill>
                <a:latin typeface="SymbolPS"/>
                <a:ea typeface="SymbolPS"/>
              </a:rPr>
              <a:t>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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W                                      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u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u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         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颜色增强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图                        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颜色压低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~  1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&gt;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C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 ~  – 0.2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43000" y="28954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35812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514600" y="16765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514600" y="2133720"/>
            <a:ext cx="1066680" cy="3045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17600" y="2430360"/>
            <a:ext cx="322560" cy="480960"/>
          </a:xfrm>
          <a:custGeom>
            <a:avLst/>
            <a:gdLst/>
            <a:ahLst/>
            <a:rect l="l" t="t" r="r" b="b"/>
            <a:pathLst>
              <a:path w="203" h="303">
                <a:moveTo>
                  <a:pt x="203" y="5"/>
                </a:moveTo>
                <a:cubicBezTo>
                  <a:pt x="178" y="9"/>
                  <a:pt x="148" y="0"/>
                  <a:pt x="128" y="16"/>
                </a:cubicBezTo>
                <a:cubicBezTo>
                  <a:pt x="110" y="30"/>
                  <a:pt x="107" y="80"/>
                  <a:pt x="107" y="80"/>
                </a:cubicBezTo>
                <a:cubicBezTo>
                  <a:pt x="119" y="125"/>
                  <a:pt x="135" y="138"/>
                  <a:pt x="160" y="176"/>
                </a:cubicBezTo>
                <a:cubicBezTo>
                  <a:pt x="153" y="187"/>
                  <a:pt x="151" y="204"/>
                  <a:pt x="139" y="208"/>
                </a:cubicBezTo>
                <a:cubicBezTo>
                  <a:pt x="0" y="250"/>
                  <a:pt x="38" y="172"/>
                  <a:pt x="11" y="250"/>
                </a:cubicBezTo>
                <a:cubicBezTo>
                  <a:pt x="25" y="303"/>
                  <a:pt x="7" y="293"/>
                  <a:pt x="54" y="293"/>
                </a:cubicBezTo>
              </a:path>
            </a:pathLst>
          </a:custGeom>
          <a:noFill/>
          <a:ln w="93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3581280"/>
            <a:ext cx="289548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2895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6400800" y="21337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086600" y="2895480"/>
            <a:ext cx="11430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400800" y="2895480"/>
            <a:ext cx="838080" cy="0"/>
          </a:xfrm>
          <a:prstGeom prst="line">
            <a:avLst/>
          </a:prstGeom>
          <a:ln w="93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086600" y="2133720"/>
            <a:ext cx="762120" cy="76176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971800" y="1981080"/>
            <a:ext cx="0" cy="16002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2514600"/>
            <a:ext cx="0" cy="1066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9C88-6F3B-4F78-BE68-898C4EB1C914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959D1-6063-41E0-8C19-81614B76AA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简单因子化的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非轻子衰变矩阵元可以利用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因子化假设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分成两部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微扰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可以计算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短程部分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强子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:  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形状因子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衰变常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lt;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|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|B&gt; =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a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&lt;π|V-A|0&gt;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&lt;π|V-A|B&gt;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=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(C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  <a:ea typeface="Times New Roman"/>
              </a:rPr>
              <a:t>1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+C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  <a:ea typeface="Times New Roman"/>
              </a:rPr>
              <a:t>2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  <a:ea typeface="Times New Roman"/>
              </a:rPr>
              <a:t>/3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F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295E-3FAB-47F8-BA23-4A1CF1628FE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2B6CB9-3331-45D5-8178-833C67D3294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因子化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一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 (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  ∝ 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/N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=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a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第二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 (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  ∝ 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/N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=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第三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M (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  ∝  (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 (1+/N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=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a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+a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18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4876920"/>
            <a:ext cx="30492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581280" y="1828800"/>
            <a:ext cx="914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2666520" y="2133720"/>
            <a:ext cx="838440" cy="457200"/>
          </a:xfrm>
          <a:prstGeom prst="line">
            <a:avLst/>
          </a:prstGeom>
          <a:ln w="28440">
            <a:solidFill>
              <a:srgbClr val="ff2b2b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BA61-0FFA-4D62-A959-4B9AB60BCD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7F75AB-72B6-48FF-918B-6DBFBFD9AA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推广的因子化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≠  3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来引入一些非因子化的贡献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ff0066"/>
                </a:solidFill>
                <a:latin typeface="Arial"/>
              </a:rPr>
              <a:t>eff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 = 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可以解释大多数的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非轻子衰变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–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例如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+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 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也就是说，对于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第一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第三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化贡献为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，实验理论符合得很好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但是对于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第二类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则不好。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例如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D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  <a:ea typeface=""/>
              </a:rPr>
              <a:t>的理论计算值则远小于实验</a:t>
            </a:r>
            <a:r>
              <a:rPr b="0" lang="zh-CN" sz="3200" spc="-1" strike="noStrike" baseline="30000">
                <a:solidFill>
                  <a:srgbClr val="ffff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(Ali, Kramer, Lü 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和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heng, Tseng, Yang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5C76-C202-442D-9508-CB13891E0EC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982E5-0888-4DEC-A498-EDF4CF1EA8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因子化方法的缺点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ff66"/>
                </a:solidFill>
                <a:latin typeface="Arial"/>
              </a:rPr>
              <a:t>非因子化贡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大小不能预言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形状因子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大小依赖于实验和其它方法的计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 —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直接影响分支比的计算（误差的主要来源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湮灭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计算存在困难（大小不能确定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强相互作用相角不能准确计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            —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影响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破坏大小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预言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末态相互作用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计算存在很大困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AADE-588F-4278-A60F-7E89C7043BB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DEAFF-CCC9-428B-824F-6762D5F26C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介子工厂实验的现状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截止到今年夏天的国际高能物理大会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EK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elle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合作组已经收集到 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85 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M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对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LAC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aBar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合作组则已经收集到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88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M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他们基本上接近测量分支比为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zh-CN" sz="3200" spc="-1" strike="noStrike" baseline="30000">
                <a:solidFill>
                  <a:srgbClr val="00ff00"/>
                </a:solidFill>
                <a:latin typeface="Arial"/>
              </a:rPr>
              <a:t>–7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衰变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1676520" y="41911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77320" y="2590920"/>
            <a:ext cx="30456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C574-05E6-4640-BA01-E16226B52E89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5B6DC-1940-4887-AC95-9F283F955B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改进的方法：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虽然因子化方法成功地解释了许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的分支比，但是理论上仍然存在着需要改进的地方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1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因子化 方法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BBN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2 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微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QCD 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求和规则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光锥求和规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--------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黄涛、李作宏等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D747-0CCF-427F-A991-08A27A083AB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553D6-D553-4D91-959D-5957E2CD43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8964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因子化方法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简单因子化方法的基础上，利用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重夸克有效理论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作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1/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m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展开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&lt;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|Q|B&gt; = &lt;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|j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|B&gt;  &lt;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| j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2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|0&gt;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[1+∑r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n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ff0066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+</a:t>
            </a:r>
            <a:r>
              <a:rPr b="0" i="1" lang="en-US" sz="2800" spc="-1" strike="noStrike">
                <a:solidFill>
                  <a:srgbClr val="ffffcc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QC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/m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]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略去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Λ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QCD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/m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贡献计算到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一阶项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包括非因子化贡献的领头阶和四夸克算符的</a:t>
            </a:r>
            <a:r>
              <a:rPr b="0" lang="en-US" sz="2800" spc="-1" strike="noStrike">
                <a:solidFill>
                  <a:srgbClr val="ff2b2b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2b2b"/>
                </a:solidFill>
                <a:latin typeface="Arial"/>
              </a:rPr>
              <a:t>s 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阶</a:t>
            </a:r>
            <a:r>
              <a:rPr b="0" lang="en-US" sz="2800" spc="-1" strike="noStrike">
                <a:solidFill>
                  <a:srgbClr val="ff2b2b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修正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国内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---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杜东生、杨茂志、杨亚东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4906-67BC-4F80-9196-DA6D2DD54CF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A0A7C-3EEA-466A-9C8B-B7373187215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17160" y="696600"/>
            <a:ext cx="863748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因子化方法的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  <a:ea typeface="Times New Roman"/>
              </a:rPr>
              <a:t>α</a:t>
            </a:r>
            <a:r>
              <a:rPr b="0" lang="en-US" sz="40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修正图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rcRect l="7383" t="18458" r="7383" b="17228"/>
          <a:stretch/>
        </p:blipFill>
        <p:spPr>
          <a:xfrm>
            <a:off x="380880" y="1676520"/>
            <a:ext cx="8382240" cy="4495680"/>
          </a:xfrm>
          <a:prstGeom prst="rect">
            <a:avLst/>
          </a:prstGeom>
          <a:ln w="28440">
            <a:solidFill>
              <a:srgbClr val="ffffcc"/>
            </a:solidFill>
            <a:miter/>
          </a:ln>
        </p:spPr>
      </p:pic>
      <p:sp>
        <p:nvSpPr>
          <p:cNvPr id="185" name=""/>
          <p:cNvSpPr/>
          <p:nvPr/>
        </p:nvSpPr>
        <p:spPr>
          <a:xfrm>
            <a:off x="609480" y="3200400"/>
            <a:ext cx="21337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8CC0-AA87-43AF-B70B-016CF0A9BF5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144E65-9C48-473F-8D9B-97F05062F5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其中四夸克算符的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修正在推广的因子化方法中已经计算过了。这里只是更系统地重新计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而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非因子化的贡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是原来因子化方法中不能计算的，包含在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Arial"/>
              </a:rPr>
              <a:t>c</a:t>
            </a:r>
            <a:r>
              <a:rPr b="0" lang="en-US" sz="2800" spc="-1" strike="noStrike" baseline="30000">
                <a:solidFill>
                  <a:srgbClr val="00ff00"/>
                </a:solidFill>
                <a:latin typeface="Arial"/>
              </a:rPr>
              <a:t>eff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的部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子化方法中领头阶的贡献仍然是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形状因子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乘以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衰变常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维尔森系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而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形状因子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大小还依赖于其他方法的计算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于非因子化贡献的图的计算需要引进介子的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波函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751-8BEE-4AFC-8268-7977A7CDE7F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EAF66A-BC08-4C50-A26A-61D022E322C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8487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由于级数展开中，非因子化的贡献总是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s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阶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修正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量级，是次级修正。所以对于非因子化贡献起主要作用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第二类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原则上是不能计算的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另外，由于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湮灭图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发散度有可能是线性发散，因而造成湮灭图计算的困难。只能引进一个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自由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6161-D8AF-4EA3-B33C-BBE532B3CD7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035ABE-95B9-4242-A922-BAFA1DEC5D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方法的图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rcRect l="0" t="22765" r="0" b="20304"/>
          <a:stretch/>
        </p:blipFill>
        <p:spPr>
          <a:xfrm>
            <a:off x="685800" y="1752480"/>
            <a:ext cx="7924680" cy="3899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5800" y="5638680"/>
            <a:ext cx="792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虚线内是有效的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六夸克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相互作用（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微扰的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FCEF-82E0-4CEA-86BF-E9A36109B0C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4D43AF-9226-46B7-A74B-D2EE055513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 ~ ∫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r [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(t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 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(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t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] 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exp{-S(t)}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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(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等是介子的光锥波函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C(t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四夸克算符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ilson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系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exp{-S(t)}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联系短程和长程相互作用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dakov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，它能有效地压低长程作用的贡献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H(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k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,t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六夸克相互作用的微扰计算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2671-8428-4039-89F7-84158F9B756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8E8CE-9910-4DCE-BACE-A196765A19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微扰计算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(t)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费曼图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rcRect l="11998" t="8614" r="20304" b="7383"/>
          <a:stretch/>
        </p:blipFill>
        <p:spPr>
          <a:xfrm>
            <a:off x="228600" y="1676520"/>
            <a:ext cx="7162920" cy="4647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7467480" y="1676520"/>
            <a:ext cx="144792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计算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形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状因子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费曼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467480" y="4495680"/>
            <a:ext cx="144792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非因子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化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献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906-7F96-4323-BE24-C8862CDD795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4FEDC8-B8C2-461D-80C7-0A7143255D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微扰计算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(t)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费曼图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238520" y="1905120"/>
            <a:ext cx="1298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非因子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化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湮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灭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子化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湮灭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图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2"/>
          <a:srcRect l="11536" t="8614" r="25841" b="6153"/>
          <a:stretch/>
        </p:blipFill>
        <p:spPr>
          <a:xfrm>
            <a:off x="457200" y="1676520"/>
            <a:ext cx="6681960" cy="4647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8223F-75B1-4ACF-BA8C-4D9052B9E89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96E2EA-FB03-4460-8E38-604B912CC0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微扰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计算结果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696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ahoma"/>
              </a:rPr>
              <a:t>衰变道         微扰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QCD            </a:t>
            </a:r>
            <a:r>
              <a:rPr b="0" lang="zh-CN" sz="3200" spc="-1" strike="noStrike">
                <a:solidFill>
                  <a:srgbClr val="ffffcc"/>
                </a:solidFill>
                <a:latin typeface="Tahoma"/>
              </a:rPr>
              <a:t>实验  </a:t>
            </a:r>
            <a:r>
              <a:rPr b="0" lang="zh-CN" sz="3200" spc="-1" strike="noStrike">
                <a:solidFill>
                  <a:srgbClr val="ffffcc"/>
                </a:solidFill>
                <a:latin typeface="Tahoma"/>
              </a:rPr>
              <a:t>(10</a:t>
            </a:r>
            <a:r>
              <a:rPr b="0" lang="zh-CN" sz="3200" spc="-1" strike="noStrike" baseline="30000">
                <a:solidFill>
                  <a:srgbClr val="ffffcc"/>
                </a:solidFill>
                <a:latin typeface="Tahoma"/>
              </a:rPr>
              <a:t>–6</a:t>
            </a:r>
            <a:r>
              <a:rPr b="0" lang="zh-CN" sz="3200" spc="-1" strike="noStrike">
                <a:solidFill>
                  <a:srgbClr val="ffffcc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696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 6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±2           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4.9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±0.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696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         0.3±0.1               &lt;5.7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969696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ahoma"/>
              </a:rPr>
              <a:t>0                 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3.7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±1               </a:t>
            </a:r>
            <a:r>
              <a:rPr b="0" lang="en-US" sz="3200" spc="-1" strike="noStrike">
                <a:solidFill>
                  <a:srgbClr val="00ff00"/>
                </a:solidFill>
                <a:latin typeface="Tahoma"/>
              </a:rPr>
              <a:t>5.9</a:t>
            </a: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 ±1.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Ukai,Yang, Phys. Rev.D63, 074009 (2001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DAC1-7D7B-480E-89BE-4F6740470D1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672CF-FA41-4FF0-9966-97EA9B11D6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企鹅图衰变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第一个企鹅图衰变是由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EO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发现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*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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2743200"/>
            <a:ext cx="8510400" cy="3436920"/>
          </a:xfrm>
          <a:prstGeom prst="rect">
            <a:avLst/>
          </a:prstGeom>
          <a:ln w="9360">
            <a:solidFill>
              <a:srgbClr val="ff2b2b"/>
            </a:solidFill>
            <a:miter/>
          </a:ln>
        </p:spPr>
      </p:pic>
      <p:sp>
        <p:nvSpPr>
          <p:cNvPr id="99" name=""/>
          <p:cNvSpPr/>
          <p:nvPr/>
        </p:nvSpPr>
        <p:spPr>
          <a:xfrm>
            <a:off x="685800" y="6019920"/>
            <a:ext cx="7238880" cy="0"/>
          </a:xfrm>
          <a:prstGeom prst="line">
            <a:avLst/>
          </a:prstGeom>
          <a:ln w="572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905120" y="60199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6477120" y="601992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7086600" y="2514600"/>
            <a:ext cx="0" cy="838080"/>
          </a:xfrm>
          <a:prstGeom prst="line">
            <a:avLst/>
          </a:prstGeom>
          <a:ln w="38160">
            <a:solidFill>
              <a:srgbClr val="ff2b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352680"/>
            <a:ext cx="914400" cy="0"/>
          </a:xfrm>
          <a:prstGeom prst="line">
            <a:avLst/>
          </a:prstGeom>
          <a:ln w="38160">
            <a:solidFill>
              <a:srgbClr val="ff2b2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FA24-56E3-43B9-8AC7-7977C903D7B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B4210A-AE2D-4C49-8C1B-9CD89445D5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P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破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我们还预言了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+</a:t>
            </a:r>
            <a:r>
              <a:rPr b="0" lang="en-US" sz="3200" spc="-1" strike="noStrike">
                <a:solidFill>
                  <a:srgbClr val="ffcc00"/>
                </a:solidFill>
                <a:latin typeface="Tahoma"/>
              </a:rPr>
              <a:t>π</a:t>
            </a:r>
            <a:r>
              <a:rPr b="0" lang="en-US" sz="3200" spc="-1" strike="noStrike" baseline="30000">
                <a:solidFill>
                  <a:srgbClr val="ffcc00"/>
                </a:solidFill>
                <a:latin typeface="Tahoma"/>
              </a:rPr>
              <a:t>–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的直接和间接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破坏的大小，最近的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工厂实验给出的最新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破坏测量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ffcc00"/>
                </a:solidFill>
                <a:latin typeface="Arial"/>
              </a:rPr>
              <a:t>平均值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）与我们的预言基本相符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%)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QCD     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化     实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ππ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–3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20 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+6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12     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–57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19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ππ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–20±30       –35 ±35       –57±25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D5C3-8774-49A1-B45B-4D0B24D0939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50352F-DE96-407F-AB72-E97C50E996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πρ, πω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衰变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5104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衰变道     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QCD     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实验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10</a:t>
            </a:r>
            <a:r>
              <a:rPr b="0" lang="zh-CN" sz="3200" spc="-1" strike="noStrike" baseline="30000">
                <a:solidFill>
                  <a:srgbClr val="ffffcc"/>
                </a:solidFill>
                <a:latin typeface="Arial"/>
              </a:rPr>
              <a:t>–6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ρ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       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5.5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1.0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8.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2.4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ρ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+ 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ρ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    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26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6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25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7   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π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ω           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5.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1.1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6.6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2.2(Babar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Yang, Eur. Phys. J. C23, 275(200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C858-AE65-4EC7-AB29-A0462BBA21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C9C1B8-5223-489A-A575-3C79AA3189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纯湮灭图贡献的衰变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752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                </a:t>
            </a:r>
            <a:r>
              <a:rPr b="0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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         s       s              b          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u          c   D</a:t>
            </a:r>
            <a:r>
              <a:rPr b="0" lang="en-US" sz="3200" spc="-1" strike="noStrike" baseline="-30000">
                <a:solidFill>
                  <a:srgbClr val="ffffcc"/>
                </a:solidFill>
                <a:latin typeface="Arial"/>
                <a:ea typeface="楷体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            u         c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3880" y="259092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1523880" y="304812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286000" y="2285640"/>
            <a:ext cx="76212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3048120"/>
            <a:ext cx="762120" cy="7617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819520" y="2666520"/>
            <a:ext cx="38088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30481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2895480"/>
            <a:ext cx="304920" cy="15264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600200" y="44197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1523880" y="480060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209680" y="4114440"/>
            <a:ext cx="685800" cy="685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09680" y="4800600"/>
            <a:ext cx="762120" cy="609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2743200" y="44197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743200" y="4800600"/>
            <a:ext cx="380880" cy="3049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14600" y="4723920"/>
            <a:ext cx="304920" cy="3049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51460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952880" y="297180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5638680" y="2285640"/>
            <a:ext cx="762120" cy="7621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38680" y="3048120"/>
            <a:ext cx="762120" cy="76176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6248520" y="25909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248520" y="297180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81480" y="4267080"/>
            <a:ext cx="381240" cy="38124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105520" y="4648320"/>
            <a:ext cx="457200" cy="4572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715000" y="3962160"/>
            <a:ext cx="685800" cy="68580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15000" y="4648320"/>
            <a:ext cx="762120" cy="6094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248520" y="4419720"/>
            <a:ext cx="380880" cy="38088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48520" y="4800600"/>
            <a:ext cx="380880" cy="30492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5334120" y="4800600"/>
            <a:ext cx="914400" cy="7632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181480" y="2743200"/>
            <a:ext cx="1067040" cy="22860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286000"/>
            <a:ext cx="1526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295280" y="2209680"/>
            <a:ext cx="15264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00600" y="220968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2286000"/>
            <a:ext cx="152280" cy="0"/>
          </a:xfrm>
          <a:prstGeom prst="line">
            <a:avLst/>
          </a:prstGeom>
          <a:ln w="1908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676160" y="2742840"/>
            <a:ext cx="152280" cy="15228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1676520" y="3200040"/>
            <a:ext cx="152280" cy="15228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590560" y="2590920"/>
            <a:ext cx="152280" cy="15228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3352680"/>
            <a:ext cx="152280" cy="15264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2971800" y="2742840"/>
            <a:ext cx="152280" cy="15228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2971800" y="3200400"/>
            <a:ext cx="76320" cy="76320"/>
          </a:xfrm>
          <a:prstGeom prst="line">
            <a:avLst/>
          </a:prstGeom>
          <a:ln w="1908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721D-3711-49E0-BB0A-C4143753A5F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BC224-0319-4151-B074-5C2BB49ABC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纯湮灭图贡献的衰变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∝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u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ü, Ukai, hep-ph/0210206</a:t>
            </a:r>
            <a:r>
              <a:rPr b="0" lang="zh-CN" sz="2400" spc="-1" strike="noStrike">
                <a:solidFill>
                  <a:srgbClr val="ffffcc"/>
                </a:solidFill>
                <a:latin typeface="Arial"/>
              </a:rPr>
              <a:t>:</a:t>
            </a:r>
            <a:r>
              <a:rPr b="0" lang="zh-CN" sz="20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 ≈ 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(4±1)x10</a:t>
            </a:r>
            <a:r>
              <a:rPr b="0" lang="en-US" sz="3200" spc="-1" strike="noStrike" baseline="30000">
                <a:solidFill>
                  <a:srgbClr val="ff2b2b"/>
                </a:solidFill>
                <a:latin typeface="Arial"/>
              </a:rPr>
              <a:t>–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lle:      Br  =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3.2 x 10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Bar:     Br = 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4.6 x  10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5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K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∝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d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*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Br ≈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8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→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∝  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Arial"/>
              </a:rPr>
              <a:t>cs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* 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r ≈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7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L ü Eur.Phys.J.C24,121(2002)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EB66-A633-4244-9FBC-FEC945E026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552585-35CA-4A02-BB00-B83D8AA3C9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17160" y="627120"/>
            <a:ext cx="863748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H(t)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计算中不同</a:t>
            </a:r>
            <a:r>
              <a:rPr b="0" lang="en-US" sz="4400" spc="-1" strike="noStrike">
                <a:solidFill>
                  <a:srgbClr val="00ff00"/>
                </a:solidFill>
                <a:latin typeface="Arial"/>
                <a:ea typeface="Times New Roman"/>
              </a:rPr>
              <a:t>α</a:t>
            </a:r>
            <a:r>
              <a:rPr b="0" lang="en-US" sz="44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贡献相对大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2"/>
          <a:srcRect l="10613" t="9844" r="7845" b="8614"/>
          <a:stretch/>
        </p:blipFill>
        <p:spPr>
          <a:xfrm>
            <a:off x="1219320" y="1752480"/>
            <a:ext cx="6781680" cy="40388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536760" y="1981080"/>
            <a:ext cx="6188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Fractio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10080" y="5791320"/>
            <a:ext cx="129564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  <a:ea typeface="Times New Roman"/>
              </a:rPr>
              <a:t>α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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CAB-0E3F-4A9C-AD21-9C5B000F5641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06FC7-FA73-43EA-ADE6-0E9B645E6F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微扰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方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微扰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是一个自恰的 两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非轻子衰变理论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udakov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有效地压低了非微扰的贡献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非因子化和湮灭图的贡献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在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非轻子衰变中起着很重要的作用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特别是对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破坏的研究上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微扰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预言了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较大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不对称性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理论的正确性将很快被实验验证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EDA6-5379-42BD-A0BD-D297CE14247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78594-773D-4DB8-8FDA-FFFF828F5E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因子化和微扰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方法的比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37335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因子化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形状因子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输入参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波函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输入参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忽略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夸克横动量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，有端点发散，引入截断参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724280" y="16765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微扰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方法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形状因子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可以计算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波函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输入参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引入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夸克横动量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有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udakov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压低效应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无端点发散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DD16-1B4D-4BEF-A2F5-A145E3CD8041}" type="slidenum">
              <a:t>3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0B51DA-76F0-49BD-B090-6D742E423B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17160" y="841320"/>
            <a:ext cx="863748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因子化和微扰</a:t>
            </a: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QCD</a:t>
            </a:r>
            <a:r>
              <a:rPr b="0" lang="zh-CN" sz="3600" spc="-1" strike="noStrike">
                <a:solidFill>
                  <a:srgbClr val="ffcc00"/>
                </a:solidFill>
                <a:latin typeface="Arial"/>
              </a:rPr>
              <a:t>方法的比较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38098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因子化方法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不能计算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非因子化贡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起主要作用的衰变，也不能定量计算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湮灭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贡献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非因子化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是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阶修正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四夸克算符的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维尔森系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计算到次领头阶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724280" y="1676520"/>
            <a:ext cx="3733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微扰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方法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能计算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非因子化贡献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起主要作用的衰变，也能定量计算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湮灭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贡献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非因子化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与因子化贡献是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α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  <a:ea typeface="Times New Roman"/>
              </a:rPr>
              <a:t>s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同阶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维尔森系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只计算到领头阶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F0D3-AAE6-4E37-8ABF-6AFD8012DD07}" type="slidenum">
              <a:t>37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9BA7D8-7A14-48BF-B831-741CE4E885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KM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相角的测量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β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已经由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J/ψK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衰变得到 （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工厂实验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对于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γ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角来说，一直没有很好的方法。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→K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ρ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或者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→K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D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来测量 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于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企鹅图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干涉效应， 由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-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衰变不能干净地得到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  <a:ea typeface="Times New Roman"/>
              </a:rPr>
              <a:t>α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角的数值。需要测量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π</a:t>
            </a:r>
            <a:r>
              <a:rPr b="0" lang="en-US" sz="2800" spc="-1" strike="noStrike" baseline="30000">
                <a:solidFill>
                  <a:srgbClr val="ffffcc"/>
                </a:solidFill>
                <a:latin typeface="Arial"/>
                <a:ea typeface="Times New Roman"/>
              </a:rPr>
              <a:t>0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衰变。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工厂实验很困难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如果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理论计算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能确定企鹅图的大小，将能解决这个问题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7B78-5DAD-411E-8E40-FE4C7F1722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F5E366-9AA3-4143-A4C2-F50BF17B4D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4" name=""/>
          <p:cNvGraphicFramePr/>
          <p:nvPr/>
        </p:nvGraphicFramePr>
        <p:xfrm>
          <a:off x="380880" y="533520"/>
          <a:ext cx="8458200" cy="5695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533520"/>
                    <a:ext cx="8458200" cy="569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EA2-85B8-4DC5-908D-3B21E7E9F65F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9EBD4-23E5-445D-B5C0-15F19F375A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辐射衰变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x10</a:t>
            </a:r>
            <a:r>
              <a:rPr b="0" lang="en-US" sz="4400" spc="-1" strike="noStrike" baseline="30000">
                <a:solidFill>
                  <a:srgbClr val="ffcc00"/>
                </a:solidFill>
                <a:latin typeface="Arial"/>
              </a:rPr>
              <a:t>–6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K*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42.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4.0 ±2.2(BaBar)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39.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2.3 ±2.5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K*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:     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38.3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6.2 ±2.2(BaBar) 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                        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42.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± 3.5 ±3.1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&lt; 1.6 (BaBar)      &lt; 2.6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3200" spc="-1" strike="noStrike" baseline="30000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&lt; 2.3 (BaBar)     &lt; 4.9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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&lt; 1.2 (BaBar)      &lt; 3.1 (Belle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E14A-CA55-4A93-869B-42DC6BC0D2E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6F865C-7D4F-432A-99E2-1BB0268F44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KM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相角</a:t>
            </a:r>
            <a:r>
              <a:rPr b="0" lang="zh-CN" sz="4400" spc="-1" strike="noStrike">
                <a:solidFill>
                  <a:srgbClr val="ffcc00"/>
                </a:solidFill>
                <a:latin typeface="Symbol"/>
                <a:ea typeface="Symbol"/>
              </a:rPr>
              <a:t>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的测量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28320" y="1941480"/>
            <a:ext cx="843444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aBar result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J/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 2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0.74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0.067±0.033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： 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 2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= 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–0.19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0.51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0.0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elle result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J/</a:t>
            </a:r>
            <a:r>
              <a:rPr b="0" lang="en-US" sz="3200" spc="-1" strike="noStrike">
                <a:solidFill>
                  <a:srgbClr val="00ff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 K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 2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0.719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0.074±0.035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0066"/>
                </a:solidFill>
                <a:latin typeface="Symbol"/>
                <a:ea typeface="Symbol"/>
              </a:rPr>
              <a:t></a:t>
            </a: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 Ks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： 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n 2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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= 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–0.73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0.64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±0.18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新物理？  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邢志忠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ep-ph/0008018</a:t>
            </a: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6A37-89EF-4A8B-B899-A77F83EF21A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AE816-58EB-4D99-A9D2-D261D5BA17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Tahoma"/>
              </a:rPr>
              <a:t>限定</a:t>
            </a:r>
            <a:r>
              <a:rPr b="0" lang="en-US" sz="4000" spc="-1" strike="noStrike">
                <a:solidFill>
                  <a:srgbClr val="ff9900"/>
                </a:solidFill>
                <a:latin typeface="Tahoma"/>
              </a:rPr>
              <a:t>CKM </a:t>
            </a:r>
            <a:r>
              <a:rPr b="1" lang="zh-CN" sz="4000" spc="-1" strike="noStrike">
                <a:solidFill>
                  <a:srgbClr val="ff9900"/>
                </a:solidFill>
                <a:latin typeface="Tahoma"/>
              </a:rPr>
              <a:t>相角</a:t>
            </a:r>
            <a:r>
              <a:rPr b="1" lang="en-US" sz="4000" spc="-1" strike="noStrike">
                <a:solidFill>
                  <a:srgbClr val="ff9900"/>
                </a:solidFill>
                <a:latin typeface="Symbol"/>
                <a:ea typeface="Symbol"/>
              </a:rPr>
              <a:t></a:t>
            </a:r>
            <a:r>
              <a:rPr b="1" lang="zh-CN" sz="4000" spc="-1" strike="noStrike">
                <a:solidFill>
                  <a:srgbClr val="ff9900"/>
                </a:solidFill>
                <a:latin typeface="Tahoma"/>
              </a:rPr>
              <a:t>的方法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应用最新的两个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工厂实验对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 →ππ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破坏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测量数据，提出了一种模型无关的限定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KM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相角</a:t>
            </a:r>
            <a:r>
              <a:rPr b="0" lang="en-US" sz="3200" spc="-1" strike="noStrike">
                <a:solidFill>
                  <a:srgbClr val="ff2b2b"/>
                </a:solidFill>
                <a:latin typeface="Symbol"/>
                <a:ea typeface="Symbol"/>
              </a:rPr>
              <a:t>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方法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据此指出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工厂实验对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 →ππ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破坏参数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测量与现有的其他实验给出的拟和结果并不矛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Xiao, Phys. Rev. D66, 074011 (2002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7F8-7138-439C-9ED6-F08E9D2E239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363D1-B976-4BD6-90FD-8AE19341C7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实验所测的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ππ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ffcc00"/>
                </a:solidFill>
                <a:latin typeface="Arial"/>
              </a:rPr>
              <a:t>ππ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破坏参数只依赖于三个参数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KM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相角</a:t>
            </a:r>
            <a:r>
              <a:rPr b="0" lang="en-US" sz="28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、圈图和树图的相对大小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r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和它们的相对强相互作用位相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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两个实验测量值虽然不能定出三个参数的大小，却能对其范围作出限制。我们的结果是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86°&lt;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&lt; 148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°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也就是说，</a:t>
            </a:r>
            <a:r>
              <a:rPr b="0" lang="en-US" sz="2800" spc="-1" strike="noStrike">
                <a:solidFill>
                  <a:srgbClr val="ff2b2b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倾向于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&gt; 90°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这个测量也从另一个方面验证了我们的微扰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QCD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方法是可靠的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9A53-FA9A-4934-A1F5-CD03CA2D169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BCACB-52F5-488E-9202-20523AABFE6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物理其它方面的进展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张肇西、陈裕启等的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00ff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产生和衰变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研究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重子研究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重子衰变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--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研究很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介子的三体和</a:t>
            </a:r>
            <a:r>
              <a:rPr b="0" lang="zh-CN" sz="3200" spc="-1" strike="noStrike">
                <a:solidFill>
                  <a:srgbClr val="00ff00"/>
                </a:solidFill>
                <a:latin typeface="Arial"/>
              </a:rPr>
              <a:t>多体衰变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---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研究很少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ub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9900"/>
                </a:solidFill>
                <a:latin typeface="Arial"/>
              </a:rPr>
              <a:t>和</a:t>
            </a:r>
            <a:r>
              <a:rPr b="0" lang="en-US" sz="3200" spc="-1" strike="noStrike">
                <a:solidFill>
                  <a:srgbClr val="ff9900"/>
                </a:solidFill>
                <a:latin typeface="Arial"/>
              </a:rPr>
              <a:t>V</a:t>
            </a:r>
            <a:r>
              <a:rPr b="0" lang="en-US" sz="3200" spc="-1" strike="noStrike" baseline="-25000">
                <a:solidFill>
                  <a:srgbClr val="ff9900"/>
                </a:solidFill>
                <a:latin typeface="Arial"/>
              </a:rPr>
              <a:t>cb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等的抽取以及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CP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破坏（</a:t>
            </a:r>
            <a:r>
              <a:rPr b="0" lang="en-US" sz="3200" spc="-1" strike="noStrike">
                <a:solidFill>
                  <a:srgbClr val="ff2b2b"/>
                </a:solidFill>
                <a:latin typeface="Arial"/>
              </a:rPr>
              <a:t>CKM –</a:t>
            </a:r>
            <a:r>
              <a:rPr b="0" lang="zh-CN" sz="3200" spc="-1" strike="noStrike">
                <a:solidFill>
                  <a:srgbClr val="ff2b2b"/>
                </a:solidFill>
                <a:latin typeface="Arial"/>
              </a:rPr>
              <a:t>参数拟和）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研究、重夸克有效场理论的方法—吴岳良的报告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黄朝商、肖振军、杨亚东、袁野等的分组报告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BB33-D258-4078-9AB0-CBBA720C4A25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BE226-30E8-4CE3-A2AE-56766BFA51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介子工厂实验已经通过很好地测量了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CKM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相角</a:t>
            </a:r>
            <a:r>
              <a:rPr b="0" lang="zh-CN" sz="2800" spc="-1" strike="noStrike">
                <a:solidFill>
                  <a:srgbClr val="ff0066"/>
                </a:solidFill>
                <a:latin typeface="Symbol"/>
                <a:ea typeface="Symbol"/>
              </a:rPr>
              <a:t>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实验正在努力测量另外的两个相角</a:t>
            </a:r>
            <a:r>
              <a:rPr b="0" lang="zh-CN" sz="2800" spc="-1" strike="noStrike">
                <a:solidFill>
                  <a:srgbClr val="00ff00"/>
                </a:solidFill>
                <a:latin typeface="Symbol"/>
                <a:ea typeface="Symbol"/>
              </a:rPr>
              <a:t>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和</a:t>
            </a:r>
            <a:r>
              <a:rPr b="0" lang="zh-CN" sz="2800" spc="-1" strike="noStrike">
                <a:solidFill>
                  <a:srgbClr val="00ff00"/>
                </a:solidFill>
                <a:latin typeface="Symbol"/>
                <a:ea typeface="Symbol"/>
              </a:rPr>
              <a:t>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物理实验已经测量了和即将测量很多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介子衰变分支比，包括许多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稀有衰变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有可能有</a:t>
            </a:r>
            <a:r>
              <a:rPr b="0" lang="zh-CN" sz="2800" spc="-1" strike="noStrike">
                <a:solidFill>
                  <a:srgbClr val="ffcc00"/>
                </a:solidFill>
                <a:latin typeface="Arial"/>
              </a:rPr>
              <a:t>新物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信号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介子非轻子衰变的理论计算已经能够很好地解释</a:t>
            </a:r>
            <a:r>
              <a:rPr b="0" lang="zh-CN" sz="2800" spc="-1" strike="noStrike">
                <a:solidFill>
                  <a:srgbClr val="ff2b2b"/>
                </a:solidFill>
                <a:latin typeface="Arial"/>
              </a:rPr>
              <a:t>分支比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。并有希望对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P</a:t>
            </a:r>
            <a:r>
              <a:rPr b="0" lang="zh-CN" sz="2800" spc="-1" strike="noStrike">
                <a:solidFill>
                  <a:srgbClr val="00ff00"/>
                </a:solidFill>
                <a:latin typeface="Arial"/>
              </a:rPr>
              <a:t>破坏大小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作出准确的预言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1EFD-02B4-4A52-90F8-80BCFC75351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2ABDA0-B7DD-4ACC-BF12-A69C68CC98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纯轻子衰变（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对新物理比较敏感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556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s,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ν ν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螺旋度禁戒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过程，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而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s,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螺旋度压低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的过程  </a:t>
            </a:r>
            <a:r>
              <a:rPr b="0" lang="zh-CN" sz="3200" spc="-1" strike="noStrike">
                <a:solidFill>
                  <a:srgbClr val="ffffcc"/>
                </a:solidFill>
                <a:latin typeface="Symbol"/>
                <a:ea typeface="Symbol"/>
              </a:rPr>
              <a:t>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∝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M</a:t>
            </a:r>
            <a:r>
              <a:rPr b="0" i="1" lang="en-US" sz="3200" spc="-1" strike="noStrike" baseline="-25000">
                <a:solidFill>
                  <a:srgbClr val="00ff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r(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&lt; 3.3  x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r(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&lt; 2.0  x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r(B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e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) &lt; 2.1  x 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7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057400" y="20574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rcRect l="8767" t="9844" r="52143" b="7383"/>
          <a:stretch/>
        </p:blipFill>
        <p:spPr>
          <a:xfrm>
            <a:off x="5791320" y="1523880"/>
            <a:ext cx="3128760" cy="4845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 flipV="1">
            <a:off x="7010280" y="1752120"/>
            <a:ext cx="685800" cy="3812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1880" y="3581280"/>
            <a:ext cx="457200" cy="3812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8229600" y="5486400"/>
            <a:ext cx="457200" cy="533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E48D-6AC5-4B36-8CB2-72327D04A0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821DD8-8557-43DE-9A6A-D3FFF2C990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辐射衰变（</a:t>
            </a:r>
            <a:r>
              <a:rPr b="0" lang="zh-CN" sz="4000" spc="-1" strike="noStrike">
                <a:solidFill>
                  <a:srgbClr val="ffcc00"/>
                </a:solidFill>
                <a:latin typeface="Arial"/>
              </a:rPr>
              <a:t>对新物理比较敏感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）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320" y="1941120"/>
            <a:ext cx="843444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s,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ν ν γ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则可以衰变，而只是</a:t>
            </a:r>
            <a:r>
              <a:rPr b="0" lang="zh-CN" sz="3200" spc="-1" strike="noStrike">
                <a:solidFill>
                  <a:srgbClr val="ff0066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ff0066"/>
                </a:solidFill>
                <a:latin typeface="Arial"/>
              </a:rPr>
              <a:t>QED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压低的过程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分支比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8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, 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9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。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Zhang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B 381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, (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1996) 348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类似的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s,d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γ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也不再有螺旋度的压低效应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分支比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9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, 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10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 .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Eilam,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Zhang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,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B391,461(1997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3200" spc="-1" strike="noStrike" baseline="-25000">
                <a:solidFill>
                  <a:srgbClr val="ffcc00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→ </a:t>
            </a:r>
            <a:r>
              <a:rPr b="0" i="1" lang="en-US" sz="32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ν</a:t>
            </a:r>
            <a:r>
              <a:rPr b="0" lang="en-US" sz="3200" spc="-1" strike="noStrike" baseline="30000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γ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cc"/>
                </a:solidFill>
                <a:latin typeface="Arial"/>
              </a:rPr>
              <a:t>分支比</a:t>
            </a:r>
            <a:r>
              <a:rPr b="0" lang="en-US" sz="3200" spc="-1" strike="noStrike">
                <a:solidFill>
                  <a:srgbClr val="00ff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ff00"/>
                </a:solidFill>
                <a:latin typeface="Arial"/>
              </a:rPr>
              <a:t>–5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).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hang,Cheng,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B425,166 (1998);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Chang,L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,Wang,Zong 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RD 60 114013 (1999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7400" y="2057400"/>
            <a:ext cx="22860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4800600"/>
            <a:ext cx="152280" cy="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8BCD-F019-4A90-8C86-E09E272B14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AAF41-B891-4559-964F-CD5A20A304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627120"/>
            <a:ext cx="8637480" cy="85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单举辐射衰变 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</a:t>
            </a:r>
            <a:r>
              <a:rPr b="0" lang="en-US" sz="44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X</a:t>
            </a:r>
            <a:r>
              <a:rPr b="0" lang="en-US" sz="4400" spc="-1" strike="noStrike" baseline="-25000">
                <a:solidFill>
                  <a:srgbClr val="ffcc00"/>
                </a:solidFill>
                <a:latin typeface="Arial"/>
              </a:rPr>
              <a:t>S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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(10</a:t>
            </a:r>
            <a:r>
              <a:rPr b="0" lang="en-US" sz="4400" spc="-1" strike="noStrike" baseline="30000">
                <a:solidFill>
                  <a:srgbClr val="ffcc00"/>
                </a:solidFill>
                <a:latin typeface="Arial"/>
              </a:rPr>
              <a:t>–4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118" name="BFcomp" descr=""/>
          <p:cNvPicPr/>
          <p:nvPr/>
        </p:nvPicPr>
        <p:blipFill>
          <a:blip r:embed="rId2"/>
          <a:srcRect l="12459" t="15013" r="8767" b="18274"/>
          <a:stretch/>
        </p:blipFill>
        <p:spPr>
          <a:xfrm>
            <a:off x="0" y="1600200"/>
            <a:ext cx="91440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5D2-D3D1-4CC1-A615-FB9936261D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3C3FB7-6105-493C-9106-AF0C01E74DD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半轻子衰变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(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10</a:t>
            </a:r>
            <a:r>
              <a:rPr b="0" lang="en-US" sz="4400" spc="-1" strike="noStrike" baseline="30000">
                <a:solidFill>
                  <a:srgbClr val="ffcc00"/>
                </a:solidFill>
                <a:latin typeface="Arial"/>
              </a:rPr>
              <a:t>–7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), </a:t>
            </a:r>
            <a:r>
              <a:rPr b="0" i="1" lang="en-US" sz="44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 = e </a:t>
            </a:r>
            <a:r>
              <a:rPr b="0" lang="en-US" sz="4400" spc="-1" strike="noStrike">
                <a:solidFill>
                  <a:srgbClr val="ffcc00"/>
                </a:solidFill>
                <a:latin typeface="Symbol"/>
                <a:ea typeface="Symbol"/>
              </a:rPr>
              <a:t>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(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00ff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X</a:t>
            </a:r>
            <a:r>
              <a:rPr b="0" lang="en-US" sz="2800" spc="-1" strike="noStrike" baseline="-25000">
                <a:solidFill>
                  <a:srgbClr val="00ff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00ff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00ff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00ff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) = (61 ±14±12) (Belle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K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) = (7.8 ±2.2±1.5) (BaBar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K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) = (5.8 ±1.6±0.6) (Belle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r(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B </a:t>
            </a:r>
            <a:r>
              <a:rPr b="0" lang="en-US" sz="2800" spc="-1" strike="noStrike">
                <a:solidFill>
                  <a:srgbClr val="ffcc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 K*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cc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) = (16.8 ±6.3±2.8) (BaBar) (Belle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无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)   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理论与实验结果基本符合：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aBar 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国际高能物理会议上引用了吴岳良等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HQEFT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结果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黄朝商等的半轻子衰变中的</a:t>
            </a:r>
            <a:r>
              <a:rPr b="0" lang="zh-CN" sz="2800" spc="-1" strike="noStrike">
                <a:solidFill>
                  <a:srgbClr val="ff0066"/>
                </a:solidFill>
                <a:latin typeface="Arial"/>
              </a:rPr>
              <a:t>新物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贡献等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B407-BF75-4232-B230-F037CE43480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4FFAC-7FBA-4DDA-852E-CC5EE9391B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80480"/>
            <a:ext cx="86374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B→K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ahoma"/>
              </a:rPr>
              <a:t>*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（→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Kπ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）</a:t>
            </a: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ahoma"/>
              </a:rPr>
              <a:t>+ </a:t>
            </a:r>
            <a:r>
              <a:rPr b="0" i="1" lang="en-US" sz="4000" spc="-1" strike="noStrike">
                <a:solidFill>
                  <a:srgbClr val="ffcc00"/>
                </a:solidFill>
                <a:latin typeface="Times New Roman"/>
              </a:rPr>
              <a:t>l</a:t>
            </a:r>
            <a:r>
              <a:rPr b="0" lang="en-US" sz="4000" spc="-1" strike="noStrike" baseline="30000">
                <a:solidFill>
                  <a:srgbClr val="ffcc00"/>
                </a:solidFill>
                <a:latin typeface="Tahoma"/>
              </a:rPr>
              <a:t>–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在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B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介子的稀有衰变研究中，我们提出了通过新物理对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B→K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（→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Kπ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）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+ </a:t>
            </a:r>
            <a:r>
              <a:rPr b="0" i="1" lang="en-US" sz="2800" spc="-1" strike="noStrike">
                <a:solidFill>
                  <a:srgbClr val="ff9900"/>
                </a:solidFill>
                <a:latin typeface="Times New Roman"/>
              </a:rPr>
              <a:t>l</a:t>
            </a:r>
            <a:r>
              <a:rPr b="0" lang="en-US" sz="2800" spc="-1" strike="noStrike" baseline="30000">
                <a:solidFill>
                  <a:srgbClr val="ff99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ff9900"/>
                </a:solidFill>
                <a:latin typeface="Arial"/>
              </a:rPr>
              <a:t>衰变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中角分布的影响，来寻找新物理的方法。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由于最终的衰变末态是四个粒子，有两个衰变平面。此两平面的夹角为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φ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微分衰变宽度是夹角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φ</a:t>
            </a:r>
            <a:r>
              <a:rPr b="0" lang="zh-CN" sz="2800" spc="-1" strike="noStrike">
                <a:solidFill>
                  <a:srgbClr val="ffffcc"/>
                </a:solidFill>
                <a:latin typeface="Arial"/>
              </a:rPr>
              <a:t>的函数，这个函数与相互作用的形式有关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Kim</a:t>
            </a:r>
            <a:r>
              <a:rPr b="0" lang="en-US" sz="24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L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ü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,Morozumi,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D 62 034013, 2000;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RD 64 094014,2001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高能物理大会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A18E-EDA9-434B-AAEA-9761D7F65E6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6AC96-8399-44C5-8B10-EE41F82391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c dd</cp:lastModifiedBy>
  <dcterms:modified xsi:type="dcterms:W3CDTF">2002-10-29T02:51:46Z</dcterms:modified>
  <cp:revision>199</cp:revision>
  <dc:subject/>
  <dc:title>PowerPoint Presentation</dc:title>
</cp:coreProperties>
</file>